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4.gif" ContentType="image/gi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gif" ContentType="image/gif"/>
  <Override PartName="/ppt/media/image9.wmf" ContentType="image/x-wmf"/>
  <Override PartName="/ppt/media/image7.png" ContentType="image/png"/>
  <Override PartName="/ppt/media/image11.wmf" ContentType="image/x-wmf"/>
  <Override PartName="/ppt/media/image8.wmf" ContentType="image/x-wmf"/>
  <Override PartName="/ppt/media/image10.gif" ContentType="image/gi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4915-7691-410A-8707-040248C0C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from above goes underground to the sewage system through the pipes and through the first net, to take out the large solids, and rubbish that is caught  by the water. The net is Diagonal so that once the water goes through the net the rubbish will stay back and slide down the net into the tube and into the Rubbish Dump. Once the water goes through the net of rubbish the water goes down the purple pipe, and through, the smaller net to remove rocks and sand. Once the water has passed the sand and rocks are left on  the net and eventually falls into the storage of sand and roc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95385-1301-4AAF-97E2-2E93A4CA2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35FF-E77D-4C32-8757-B741FC7FC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173FD-4FCB-447B-8C47-3E9F1C507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E2753-608B-43BB-A291-8F9096865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9DD3E-2515-44ED-974F-6C123A806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EF4A-1655-47E4-908E-0B8DCA84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276F1-39D7-4F3E-BF74-626113D0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28BF6-A0F6-4906-87B9-4D33B9A83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FF67-7363-4E8F-A737-E7ED93272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7A80-8E5C-4A60-8574-350943D2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095F-EA3C-43A2-92D6-E0F6B720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093A-FE0E-48F1-A2FB-7F968751C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485F-82A8-4498-9E3F-5EE618B8A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gif"/><Relationship Id="rId11" Type="http://schemas.openxmlformats.org/officeDocument/2006/relationships/image" Target="../media/image7.pn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9.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gif"/><Relationship Id="rId9" Type="http://schemas.openxmlformats.org/officeDocument/2006/relationships/image" Target="../media/image7.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rot="5400000">
            <a:off x="61200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rot="5400000">
            <a:off x="172800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302328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14080" y="2924280"/>
            <a:ext cx="9163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ff"/>
                </a:solidFill>
                <a:latin typeface="Eras Light ITC"/>
              </a:rPr>
              <a:t>Vivian’s Sewage System</a:t>
            </a:r>
            <a:endParaRPr b="0" lang="en-US" sz="6000" spc="-1" strike="noStrike">
              <a:solidFill>
                <a:srgbClr val="000000"/>
              </a:solidFill>
              <a:latin typeface="Arial"/>
            </a:endParaRPr>
          </a:p>
        </p:txBody>
      </p:sp>
      <p:sp>
        <p:nvSpPr>
          <p:cNvPr id="52" name=""/>
          <p:cNvSpPr/>
          <p:nvPr/>
        </p:nvSpPr>
        <p:spPr>
          <a:xfrm rot="5400000">
            <a:off x="432036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561564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691272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8207640" y="3321720"/>
            <a:ext cx="503280" cy="17269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011240" y="4878360"/>
            <a:ext cx="1832040" cy="1479600"/>
          </a:xfrm>
          <a:custGeom>
            <a:avLst/>
            <a:gdLst/>
            <a:ahLst/>
            <a:rect l="l" t="t" r="r" b="b"/>
            <a:pathLst>
              <a:path w="1154" h="932">
                <a:moveTo>
                  <a:pt x="88" y="146"/>
                </a:moveTo>
                <a:cubicBezTo>
                  <a:pt x="223" y="211"/>
                  <a:pt x="339" y="225"/>
                  <a:pt x="488" y="234"/>
                </a:cubicBezTo>
                <a:cubicBezTo>
                  <a:pt x="649" y="230"/>
                  <a:pt x="759" y="218"/>
                  <a:pt x="908" y="207"/>
                </a:cubicBezTo>
                <a:cubicBezTo>
                  <a:pt x="953" y="195"/>
                  <a:pt x="999" y="191"/>
                  <a:pt x="1044" y="180"/>
                </a:cubicBezTo>
                <a:cubicBezTo>
                  <a:pt x="1075" y="173"/>
                  <a:pt x="1106" y="159"/>
                  <a:pt x="1138" y="159"/>
                </a:cubicBezTo>
                <a:cubicBezTo>
                  <a:pt x="1143" y="165"/>
                  <a:pt x="1154" y="168"/>
                  <a:pt x="1154" y="176"/>
                </a:cubicBezTo>
                <a:cubicBezTo>
                  <a:pt x="1154" y="186"/>
                  <a:pt x="1142" y="191"/>
                  <a:pt x="1138" y="200"/>
                </a:cubicBezTo>
                <a:cubicBezTo>
                  <a:pt x="1133" y="212"/>
                  <a:pt x="1126" y="272"/>
                  <a:pt x="1125" y="275"/>
                </a:cubicBezTo>
                <a:cubicBezTo>
                  <a:pt x="1119" y="301"/>
                  <a:pt x="1103" y="323"/>
                  <a:pt x="1098" y="349"/>
                </a:cubicBezTo>
                <a:cubicBezTo>
                  <a:pt x="1074" y="467"/>
                  <a:pt x="1032" y="578"/>
                  <a:pt x="983" y="688"/>
                </a:cubicBezTo>
                <a:cubicBezTo>
                  <a:pt x="963" y="732"/>
                  <a:pt x="929" y="803"/>
                  <a:pt x="894" y="837"/>
                </a:cubicBezTo>
                <a:cubicBezTo>
                  <a:pt x="844" y="886"/>
                  <a:pt x="791" y="915"/>
                  <a:pt x="725" y="932"/>
                </a:cubicBezTo>
                <a:cubicBezTo>
                  <a:pt x="676" y="928"/>
                  <a:pt x="624" y="925"/>
                  <a:pt x="576" y="912"/>
                </a:cubicBezTo>
                <a:cubicBezTo>
                  <a:pt x="519" y="897"/>
                  <a:pt x="471" y="861"/>
                  <a:pt x="413" y="851"/>
                </a:cubicBezTo>
                <a:cubicBezTo>
                  <a:pt x="377" y="814"/>
                  <a:pt x="411" y="843"/>
                  <a:pt x="359" y="817"/>
                </a:cubicBezTo>
                <a:cubicBezTo>
                  <a:pt x="324" y="799"/>
                  <a:pt x="293" y="773"/>
                  <a:pt x="257" y="756"/>
                </a:cubicBezTo>
                <a:cubicBezTo>
                  <a:pt x="231" y="714"/>
                  <a:pt x="178" y="672"/>
                  <a:pt x="136" y="641"/>
                </a:cubicBezTo>
                <a:cubicBezTo>
                  <a:pt x="125" y="625"/>
                  <a:pt x="108" y="612"/>
                  <a:pt x="102" y="593"/>
                </a:cubicBezTo>
                <a:cubicBezTo>
                  <a:pt x="100" y="586"/>
                  <a:pt x="98" y="579"/>
                  <a:pt x="95" y="573"/>
                </a:cubicBezTo>
                <a:cubicBezTo>
                  <a:pt x="91" y="566"/>
                  <a:pt x="81" y="552"/>
                  <a:pt x="81" y="552"/>
                </a:cubicBezTo>
                <a:cubicBezTo>
                  <a:pt x="106" y="548"/>
                  <a:pt x="131" y="535"/>
                  <a:pt x="156" y="539"/>
                </a:cubicBezTo>
                <a:cubicBezTo>
                  <a:pt x="165" y="541"/>
                  <a:pt x="156" y="559"/>
                  <a:pt x="163" y="566"/>
                </a:cubicBezTo>
                <a:cubicBezTo>
                  <a:pt x="182" y="585"/>
                  <a:pt x="293" y="585"/>
                  <a:pt x="305" y="586"/>
                </a:cubicBezTo>
                <a:cubicBezTo>
                  <a:pt x="369" y="597"/>
                  <a:pt x="429" y="602"/>
                  <a:pt x="495" y="607"/>
                </a:cubicBezTo>
                <a:cubicBezTo>
                  <a:pt x="630" y="605"/>
                  <a:pt x="779" y="652"/>
                  <a:pt x="901" y="593"/>
                </a:cubicBezTo>
                <a:cubicBezTo>
                  <a:pt x="951" y="569"/>
                  <a:pt x="989" y="540"/>
                  <a:pt x="1016" y="491"/>
                </a:cubicBezTo>
                <a:cubicBezTo>
                  <a:pt x="1028" y="470"/>
                  <a:pt x="1044" y="424"/>
                  <a:pt x="1044" y="424"/>
                </a:cubicBezTo>
                <a:cubicBezTo>
                  <a:pt x="1041" y="378"/>
                  <a:pt x="1047" y="318"/>
                  <a:pt x="1010" y="281"/>
                </a:cubicBezTo>
                <a:cubicBezTo>
                  <a:pt x="993" y="264"/>
                  <a:pt x="949" y="241"/>
                  <a:pt x="949" y="241"/>
                </a:cubicBezTo>
                <a:cubicBezTo>
                  <a:pt x="881" y="253"/>
                  <a:pt x="853" y="303"/>
                  <a:pt x="800" y="342"/>
                </a:cubicBezTo>
                <a:cubicBezTo>
                  <a:pt x="773" y="382"/>
                  <a:pt x="708" y="443"/>
                  <a:pt x="664" y="464"/>
                </a:cubicBezTo>
                <a:cubicBezTo>
                  <a:pt x="646" y="493"/>
                  <a:pt x="621" y="498"/>
                  <a:pt x="596" y="519"/>
                </a:cubicBezTo>
                <a:cubicBezTo>
                  <a:pt x="545" y="562"/>
                  <a:pt x="479" y="586"/>
                  <a:pt x="413" y="600"/>
                </a:cubicBezTo>
                <a:cubicBezTo>
                  <a:pt x="354" y="593"/>
                  <a:pt x="351" y="590"/>
                  <a:pt x="305" y="566"/>
                </a:cubicBezTo>
                <a:cubicBezTo>
                  <a:pt x="288" y="542"/>
                  <a:pt x="269" y="537"/>
                  <a:pt x="244" y="519"/>
                </a:cubicBezTo>
                <a:cubicBezTo>
                  <a:pt x="217" y="478"/>
                  <a:pt x="246" y="516"/>
                  <a:pt x="197" y="478"/>
                </a:cubicBezTo>
                <a:cubicBezTo>
                  <a:pt x="160" y="449"/>
                  <a:pt x="115" y="393"/>
                  <a:pt x="88" y="356"/>
                </a:cubicBezTo>
                <a:cubicBezTo>
                  <a:pt x="47" y="300"/>
                  <a:pt x="90" y="361"/>
                  <a:pt x="41" y="288"/>
                </a:cubicBezTo>
                <a:cubicBezTo>
                  <a:pt x="36" y="281"/>
                  <a:pt x="27" y="268"/>
                  <a:pt x="27" y="268"/>
                </a:cubicBezTo>
                <a:cubicBezTo>
                  <a:pt x="16" y="234"/>
                  <a:pt x="7" y="201"/>
                  <a:pt x="0" y="166"/>
                </a:cubicBezTo>
                <a:cubicBezTo>
                  <a:pt x="2" y="146"/>
                  <a:pt x="1" y="124"/>
                  <a:pt x="7" y="105"/>
                </a:cubicBezTo>
                <a:cubicBezTo>
                  <a:pt x="22" y="61"/>
                  <a:pt x="115" y="60"/>
                  <a:pt x="149" y="51"/>
                </a:cubicBezTo>
                <a:cubicBezTo>
                  <a:pt x="283" y="56"/>
                  <a:pt x="314" y="54"/>
                  <a:pt x="413" y="71"/>
                </a:cubicBezTo>
                <a:cubicBezTo>
                  <a:pt x="450" y="90"/>
                  <a:pt x="478" y="95"/>
                  <a:pt x="508" y="125"/>
                </a:cubicBezTo>
                <a:cubicBezTo>
                  <a:pt x="544" y="234"/>
                  <a:pt x="508" y="117"/>
                  <a:pt x="522" y="417"/>
                </a:cubicBezTo>
                <a:cubicBezTo>
                  <a:pt x="524" y="455"/>
                  <a:pt x="556" y="489"/>
                  <a:pt x="576" y="519"/>
                </a:cubicBezTo>
                <a:cubicBezTo>
                  <a:pt x="649" y="629"/>
                  <a:pt x="720" y="657"/>
                  <a:pt x="840" y="688"/>
                </a:cubicBezTo>
                <a:cubicBezTo>
                  <a:pt x="872" y="696"/>
                  <a:pt x="902" y="708"/>
                  <a:pt x="935" y="708"/>
                </a:cubicBezTo>
                <a:lnTo>
                  <a:pt x="383" y="402"/>
                </a:lnTo>
                <a:cubicBezTo>
                  <a:pt x="1073" y="0"/>
                  <a:pt x="1103" y="113"/>
                  <a:pt x="664" y="98"/>
                </a:cubicBezTo>
                <a:cubicBezTo>
                  <a:pt x="626" y="97"/>
                  <a:pt x="587" y="94"/>
                  <a:pt x="549" y="92"/>
                </a:cubicBezTo>
                <a:cubicBezTo>
                  <a:pt x="493" y="93"/>
                  <a:pt x="356" y="86"/>
                  <a:pt x="271" y="105"/>
                </a:cubicBezTo>
                <a:cubicBezTo>
                  <a:pt x="253" y="109"/>
                  <a:pt x="241" y="118"/>
                  <a:pt x="224" y="125"/>
                </a:cubicBezTo>
                <a:cubicBezTo>
                  <a:pt x="201" y="135"/>
                  <a:pt x="156" y="153"/>
                  <a:pt x="156" y="153"/>
                </a:cubicBezTo>
                <a:cubicBezTo>
                  <a:pt x="140" y="176"/>
                  <a:pt x="99" y="202"/>
                  <a:pt x="75" y="220"/>
                </a:cubicBezTo>
                <a:cubicBezTo>
                  <a:pt x="57" y="255"/>
                  <a:pt x="40" y="289"/>
                  <a:pt x="20" y="322"/>
                </a:cubicBezTo>
                <a:cubicBezTo>
                  <a:pt x="5" y="391"/>
                  <a:pt x="6" y="376"/>
                  <a:pt x="20" y="498"/>
                </a:cubicBezTo>
                <a:cubicBezTo>
                  <a:pt x="23" y="521"/>
                  <a:pt x="45" y="538"/>
                  <a:pt x="54" y="559"/>
                </a:cubicBezTo>
                <a:cubicBezTo>
                  <a:pt x="57" y="566"/>
                  <a:pt x="56" y="575"/>
                  <a:pt x="61" y="580"/>
                </a:cubicBezTo>
                <a:cubicBezTo>
                  <a:pt x="131" y="650"/>
                  <a:pt x="236" y="717"/>
                  <a:pt x="332" y="742"/>
                </a:cubicBezTo>
                <a:cubicBezTo>
                  <a:pt x="363" y="764"/>
                  <a:pt x="396" y="764"/>
                  <a:pt x="434" y="769"/>
                </a:cubicBezTo>
                <a:cubicBezTo>
                  <a:pt x="614" y="832"/>
                  <a:pt x="693" y="799"/>
                  <a:pt x="752" y="668"/>
                </a:cubicBezTo>
                <a:cubicBezTo>
                  <a:pt x="756" y="659"/>
                  <a:pt x="765" y="651"/>
                  <a:pt x="766" y="641"/>
                </a:cubicBezTo>
                <a:cubicBezTo>
                  <a:pt x="770" y="598"/>
                  <a:pt x="766" y="555"/>
                  <a:pt x="766" y="512"/>
                </a:cubicBezTo>
                <a:lnTo>
                  <a:pt x="565" y="448"/>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a:off x="-36360" y="4005360"/>
            <a:ext cx="9443880" cy="411120"/>
          </a:xfrm>
          <a:custGeom>
            <a:avLst/>
            <a:gdLst/>
            <a:ahLst/>
            <a:rect l="l" t="t" r="r" b="b"/>
            <a:pathLst>
              <a:path w="5949" h="304">
                <a:moveTo>
                  <a:pt x="59" y="157"/>
                </a:moveTo>
                <a:cubicBezTo>
                  <a:pt x="71" y="122"/>
                  <a:pt x="85" y="108"/>
                  <a:pt x="120" y="96"/>
                </a:cubicBezTo>
                <a:cubicBezTo>
                  <a:pt x="257" y="0"/>
                  <a:pt x="651" y="106"/>
                  <a:pt x="858" y="116"/>
                </a:cubicBezTo>
                <a:cubicBezTo>
                  <a:pt x="886" y="122"/>
                  <a:pt x="918" y="135"/>
                  <a:pt x="946" y="137"/>
                </a:cubicBezTo>
                <a:cubicBezTo>
                  <a:pt x="1025" y="143"/>
                  <a:pt x="1184" y="150"/>
                  <a:pt x="1184" y="150"/>
                </a:cubicBezTo>
                <a:cubicBezTo>
                  <a:pt x="1397" y="178"/>
                  <a:pt x="1492" y="161"/>
                  <a:pt x="1780" y="157"/>
                </a:cubicBezTo>
                <a:cubicBezTo>
                  <a:pt x="1853" y="149"/>
                  <a:pt x="1925" y="138"/>
                  <a:pt x="1997" y="123"/>
                </a:cubicBezTo>
                <a:cubicBezTo>
                  <a:pt x="2092" y="77"/>
                  <a:pt x="2218" y="61"/>
                  <a:pt x="2322" y="49"/>
                </a:cubicBezTo>
                <a:cubicBezTo>
                  <a:pt x="2365" y="34"/>
                  <a:pt x="2413" y="28"/>
                  <a:pt x="2458" y="22"/>
                </a:cubicBezTo>
                <a:cubicBezTo>
                  <a:pt x="2510" y="24"/>
                  <a:pt x="2562" y="23"/>
                  <a:pt x="2614" y="28"/>
                </a:cubicBezTo>
                <a:cubicBezTo>
                  <a:pt x="2646" y="31"/>
                  <a:pt x="2671" y="58"/>
                  <a:pt x="2702" y="69"/>
                </a:cubicBezTo>
                <a:cubicBezTo>
                  <a:pt x="2733" y="80"/>
                  <a:pt x="2764" y="89"/>
                  <a:pt x="2796" y="96"/>
                </a:cubicBezTo>
                <a:cubicBezTo>
                  <a:pt x="2882" y="139"/>
                  <a:pt x="2984" y="155"/>
                  <a:pt x="3074" y="191"/>
                </a:cubicBezTo>
                <a:cubicBezTo>
                  <a:pt x="3100" y="201"/>
                  <a:pt x="3143" y="236"/>
                  <a:pt x="3176" y="238"/>
                </a:cubicBezTo>
                <a:cubicBezTo>
                  <a:pt x="3262" y="242"/>
                  <a:pt x="3347" y="243"/>
                  <a:pt x="3433" y="245"/>
                </a:cubicBezTo>
                <a:cubicBezTo>
                  <a:pt x="3638" y="258"/>
                  <a:pt x="3838" y="259"/>
                  <a:pt x="4037" y="218"/>
                </a:cubicBezTo>
                <a:cubicBezTo>
                  <a:pt x="4126" y="164"/>
                  <a:pt x="4245" y="128"/>
                  <a:pt x="4348" y="116"/>
                </a:cubicBezTo>
                <a:cubicBezTo>
                  <a:pt x="4441" y="89"/>
                  <a:pt x="4537" y="58"/>
                  <a:pt x="4633" y="42"/>
                </a:cubicBezTo>
                <a:cubicBezTo>
                  <a:pt x="4689" y="44"/>
                  <a:pt x="4746" y="45"/>
                  <a:pt x="4802" y="49"/>
                </a:cubicBezTo>
                <a:cubicBezTo>
                  <a:pt x="4823" y="50"/>
                  <a:pt x="4863" y="69"/>
                  <a:pt x="4863" y="69"/>
                </a:cubicBezTo>
                <a:cubicBezTo>
                  <a:pt x="5135" y="62"/>
                  <a:pt x="5413" y="76"/>
                  <a:pt x="5683" y="49"/>
                </a:cubicBezTo>
                <a:cubicBezTo>
                  <a:pt x="5760" y="54"/>
                  <a:pt x="5833" y="57"/>
                  <a:pt x="5907" y="76"/>
                </a:cubicBezTo>
                <a:cubicBezTo>
                  <a:pt x="5934" y="93"/>
                  <a:pt x="5949" y="122"/>
                  <a:pt x="5927" y="157"/>
                </a:cubicBezTo>
                <a:cubicBezTo>
                  <a:pt x="5914" y="177"/>
                  <a:pt x="5887" y="184"/>
                  <a:pt x="5866" y="191"/>
                </a:cubicBezTo>
                <a:cubicBezTo>
                  <a:pt x="5839" y="248"/>
                  <a:pt x="5870" y="194"/>
                  <a:pt x="5832" y="232"/>
                </a:cubicBezTo>
                <a:cubicBezTo>
                  <a:pt x="5811" y="253"/>
                  <a:pt x="5810" y="275"/>
                  <a:pt x="5785" y="293"/>
                </a:cubicBezTo>
                <a:cubicBezTo>
                  <a:pt x="5624" y="289"/>
                  <a:pt x="5550" y="304"/>
                  <a:pt x="5426" y="272"/>
                </a:cubicBezTo>
                <a:cubicBezTo>
                  <a:pt x="5130" y="277"/>
                  <a:pt x="4852" y="285"/>
                  <a:pt x="4558" y="279"/>
                </a:cubicBezTo>
                <a:cubicBezTo>
                  <a:pt x="4326" y="249"/>
                  <a:pt x="4578" y="279"/>
                  <a:pt x="3982" y="279"/>
                </a:cubicBezTo>
                <a:cubicBezTo>
                  <a:pt x="3578" y="279"/>
                  <a:pt x="3173" y="274"/>
                  <a:pt x="2769" y="272"/>
                </a:cubicBezTo>
                <a:cubicBezTo>
                  <a:pt x="2591" y="262"/>
                  <a:pt x="2417" y="249"/>
                  <a:pt x="2241" y="218"/>
                </a:cubicBezTo>
                <a:cubicBezTo>
                  <a:pt x="2178" y="192"/>
                  <a:pt x="2112" y="172"/>
                  <a:pt x="2044" y="164"/>
                </a:cubicBezTo>
                <a:cubicBezTo>
                  <a:pt x="1999" y="159"/>
                  <a:pt x="1909" y="150"/>
                  <a:pt x="1909" y="150"/>
                </a:cubicBezTo>
                <a:cubicBezTo>
                  <a:pt x="1648" y="156"/>
                  <a:pt x="1676" y="153"/>
                  <a:pt x="1516" y="171"/>
                </a:cubicBezTo>
                <a:cubicBezTo>
                  <a:pt x="1482" y="181"/>
                  <a:pt x="1458" y="186"/>
                  <a:pt x="1421" y="191"/>
                </a:cubicBezTo>
                <a:cubicBezTo>
                  <a:pt x="1358" y="213"/>
                  <a:pt x="1224" y="218"/>
                  <a:pt x="1224" y="218"/>
                </a:cubicBezTo>
                <a:cubicBezTo>
                  <a:pt x="1020" y="212"/>
                  <a:pt x="1047" y="230"/>
                  <a:pt x="940" y="198"/>
                </a:cubicBezTo>
                <a:cubicBezTo>
                  <a:pt x="911" y="179"/>
                  <a:pt x="882" y="179"/>
                  <a:pt x="852" y="164"/>
                </a:cubicBezTo>
                <a:cubicBezTo>
                  <a:pt x="715" y="94"/>
                  <a:pt x="584" y="92"/>
                  <a:pt x="431" y="69"/>
                </a:cubicBezTo>
                <a:cubicBezTo>
                  <a:pt x="360" y="58"/>
                  <a:pt x="292" y="38"/>
                  <a:pt x="221" y="28"/>
                </a:cubicBezTo>
                <a:cubicBezTo>
                  <a:pt x="151" y="30"/>
                  <a:pt x="81" y="30"/>
                  <a:pt x="11" y="35"/>
                </a:cubicBezTo>
                <a:cubicBezTo>
                  <a:pt x="2" y="36"/>
                  <a:pt x="29" y="39"/>
                  <a:pt x="38" y="42"/>
                </a:cubicBezTo>
                <a:cubicBezTo>
                  <a:pt x="114" y="70"/>
                  <a:pt x="0" y="41"/>
                  <a:pt x="120" y="62"/>
                </a:cubicBezTo>
                <a:cubicBezTo>
                  <a:pt x="187" y="74"/>
                  <a:pt x="188" y="77"/>
                  <a:pt x="282" y="82"/>
                </a:cubicBezTo>
                <a:cubicBezTo>
                  <a:pt x="407" y="113"/>
                  <a:pt x="303" y="103"/>
                  <a:pt x="560" y="103"/>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 name=""/>
          <p:cNvSpPr/>
          <p:nvPr/>
        </p:nvSpPr>
        <p:spPr>
          <a:xfrm>
            <a:off x="-684360" y="4005360"/>
            <a:ext cx="9107640" cy="422280"/>
          </a:xfrm>
          <a:custGeom>
            <a:avLst/>
            <a:gdLst/>
            <a:ahLst/>
            <a:rect l="l" t="t" r="r" b="b"/>
            <a:pathLst>
              <a:path w="5737" h="266">
                <a:moveTo>
                  <a:pt x="438" y="176"/>
                </a:moveTo>
                <a:cubicBezTo>
                  <a:pt x="862" y="266"/>
                  <a:pt x="0" y="193"/>
                  <a:pt x="1576" y="183"/>
                </a:cubicBezTo>
                <a:cubicBezTo>
                  <a:pt x="1759" y="170"/>
                  <a:pt x="1935" y="109"/>
                  <a:pt x="2118" y="88"/>
                </a:cubicBezTo>
                <a:cubicBezTo>
                  <a:pt x="2294" y="42"/>
                  <a:pt x="2481" y="45"/>
                  <a:pt x="2660" y="40"/>
                </a:cubicBezTo>
                <a:cubicBezTo>
                  <a:pt x="2745" y="32"/>
                  <a:pt x="2828" y="21"/>
                  <a:pt x="2911" y="0"/>
                </a:cubicBezTo>
                <a:cubicBezTo>
                  <a:pt x="3054" y="12"/>
                  <a:pt x="3188" y="40"/>
                  <a:pt x="3331" y="47"/>
                </a:cubicBezTo>
                <a:cubicBezTo>
                  <a:pt x="3401" y="59"/>
                  <a:pt x="3465" y="88"/>
                  <a:pt x="3534" y="101"/>
                </a:cubicBezTo>
                <a:cubicBezTo>
                  <a:pt x="3638" y="121"/>
                  <a:pt x="3743" y="139"/>
                  <a:pt x="3846" y="162"/>
                </a:cubicBezTo>
                <a:cubicBezTo>
                  <a:pt x="3988" y="194"/>
                  <a:pt x="4142" y="192"/>
                  <a:pt x="4287" y="203"/>
                </a:cubicBezTo>
                <a:cubicBezTo>
                  <a:pt x="4727" y="199"/>
                  <a:pt x="5119" y="192"/>
                  <a:pt x="5547" y="183"/>
                </a:cubicBezTo>
                <a:cubicBezTo>
                  <a:pt x="5619" y="158"/>
                  <a:pt x="5657" y="156"/>
                  <a:pt x="5737" y="156"/>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 name=""/>
          <p:cNvSpPr/>
          <p:nvPr/>
        </p:nvSpPr>
        <p:spPr>
          <a:xfrm>
            <a:off x="-2000160" y="4576680"/>
            <a:ext cx="14011200" cy="4599000"/>
          </a:xfrm>
          <a:custGeom>
            <a:avLst/>
            <a:gdLst/>
            <a:ahLst/>
            <a:rect l="l" t="t" r="r" b="b"/>
            <a:pathLst>
              <a:path w="8826" h="2897">
                <a:moveTo>
                  <a:pt x="1518" y="1115"/>
                </a:moveTo>
                <a:cubicBezTo>
                  <a:pt x="1685" y="1090"/>
                  <a:pt x="1656" y="1099"/>
                  <a:pt x="1951" y="1088"/>
                </a:cubicBezTo>
                <a:cubicBezTo>
                  <a:pt x="2118" y="1067"/>
                  <a:pt x="2284" y="1045"/>
                  <a:pt x="2446" y="1000"/>
                </a:cubicBezTo>
                <a:cubicBezTo>
                  <a:pt x="2479" y="991"/>
                  <a:pt x="2578" y="956"/>
                  <a:pt x="2602" y="939"/>
                </a:cubicBezTo>
                <a:cubicBezTo>
                  <a:pt x="2624" y="923"/>
                  <a:pt x="2676" y="905"/>
                  <a:pt x="2676" y="905"/>
                </a:cubicBezTo>
                <a:cubicBezTo>
                  <a:pt x="2708" y="875"/>
                  <a:pt x="2745" y="867"/>
                  <a:pt x="2785" y="851"/>
                </a:cubicBezTo>
                <a:cubicBezTo>
                  <a:pt x="2839" y="829"/>
                  <a:pt x="2884" y="800"/>
                  <a:pt x="2941" y="790"/>
                </a:cubicBezTo>
                <a:cubicBezTo>
                  <a:pt x="3102" y="721"/>
                  <a:pt x="3277" y="678"/>
                  <a:pt x="3449" y="648"/>
                </a:cubicBezTo>
                <a:cubicBezTo>
                  <a:pt x="3508" y="624"/>
                  <a:pt x="3459" y="641"/>
                  <a:pt x="3537" y="627"/>
                </a:cubicBezTo>
                <a:cubicBezTo>
                  <a:pt x="3557" y="623"/>
                  <a:pt x="3598" y="614"/>
                  <a:pt x="3598" y="614"/>
                </a:cubicBezTo>
                <a:cubicBezTo>
                  <a:pt x="3648" y="616"/>
                  <a:pt x="3698" y="615"/>
                  <a:pt x="3747" y="620"/>
                </a:cubicBezTo>
                <a:cubicBezTo>
                  <a:pt x="3786" y="624"/>
                  <a:pt x="3813" y="655"/>
                  <a:pt x="3849" y="668"/>
                </a:cubicBezTo>
                <a:cubicBezTo>
                  <a:pt x="3924" y="694"/>
                  <a:pt x="3994" y="720"/>
                  <a:pt x="4072" y="736"/>
                </a:cubicBezTo>
                <a:cubicBezTo>
                  <a:pt x="4145" y="771"/>
                  <a:pt x="4224" y="771"/>
                  <a:pt x="4303" y="776"/>
                </a:cubicBezTo>
                <a:cubicBezTo>
                  <a:pt x="4357" y="790"/>
                  <a:pt x="4400" y="793"/>
                  <a:pt x="4458" y="797"/>
                </a:cubicBezTo>
                <a:cubicBezTo>
                  <a:pt x="4526" y="809"/>
                  <a:pt x="4585" y="819"/>
                  <a:pt x="4655" y="824"/>
                </a:cubicBezTo>
                <a:cubicBezTo>
                  <a:pt x="4736" y="850"/>
                  <a:pt x="4663" y="830"/>
                  <a:pt x="4797" y="844"/>
                </a:cubicBezTo>
                <a:cubicBezTo>
                  <a:pt x="4862" y="851"/>
                  <a:pt x="4801" y="850"/>
                  <a:pt x="4865" y="864"/>
                </a:cubicBezTo>
                <a:cubicBezTo>
                  <a:pt x="4934" y="879"/>
                  <a:pt x="5005" y="881"/>
                  <a:pt x="5075" y="891"/>
                </a:cubicBezTo>
                <a:cubicBezTo>
                  <a:pt x="5250" y="916"/>
                  <a:pt x="5421" y="948"/>
                  <a:pt x="5597" y="966"/>
                </a:cubicBezTo>
                <a:cubicBezTo>
                  <a:pt x="5705" y="961"/>
                  <a:pt x="5814" y="959"/>
                  <a:pt x="5922" y="952"/>
                </a:cubicBezTo>
                <a:cubicBezTo>
                  <a:pt x="6021" y="945"/>
                  <a:pt x="6118" y="902"/>
                  <a:pt x="6207" y="864"/>
                </a:cubicBezTo>
                <a:cubicBezTo>
                  <a:pt x="6409" y="777"/>
                  <a:pt x="6587" y="708"/>
                  <a:pt x="6634" y="478"/>
                </a:cubicBezTo>
                <a:cubicBezTo>
                  <a:pt x="6632" y="453"/>
                  <a:pt x="6646" y="420"/>
                  <a:pt x="6627" y="404"/>
                </a:cubicBezTo>
                <a:cubicBezTo>
                  <a:pt x="6608" y="388"/>
                  <a:pt x="6577" y="407"/>
                  <a:pt x="6552" y="410"/>
                </a:cubicBezTo>
                <a:cubicBezTo>
                  <a:pt x="6502" y="416"/>
                  <a:pt x="6453" y="426"/>
                  <a:pt x="6403" y="431"/>
                </a:cubicBezTo>
                <a:cubicBezTo>
                  <a:pt x="6179" y="454"/>
                  <a:pt x="5950" y="454"/>
                  <a:pt x="5726" y="458"/>
                </a:cubicBezTo>
                <a:cubicBezTo>
                  <a:pt x="5644" y="465"/>
                  <a:pt x="5564" y="477"/>
                  <a:pt x="5482" y="485"/>
                </a:cubicBezTo>
                <a:cubicBezTo>
                  <a:pt x="5390" y="503"/>
                  <a:pt x="5308" y="524"/>
                  <a:pt x="5231" y="580"/>
                </a:cubicBezTo>
                <a:cubicBezTo>
                  <a:pt x="5118" y="662"/>
                  <a:pt x="5038" y="792"/>
                  <a:pt x="4926" y="878"/>
                </a:cubicBezTo>
                <a:cubicBezTo>
                  <a:pt x="4794" y="979"/>
                  <a:pt x="4678" y="1044"/>
                  <a:pt x="4513" y="1068"/>
                </a:cubicBezTo>
                <a:cubicBezTo>
                  <a:pt x="4512" y="1068"/>
                  <a:pt x="4275" y="1057"/>
                  <a:pt x="4221" y="1041"/>
                </a:cubicBezTo>
                <a:cubicBezTo>
                  <a:pt x="3952" y="962"/>
                  <a:pt x="3712" y="827"/>
                  <a:pt x="3462" y="702"/>
                </a:cubicBezTo>
                <a:cubicBezTo>
                  <a:pt x="3382" y="662"/>
                  <a:pt x="3316" y="598"/>
                  <a:pt x="3239" y="553"/>
                </a:cubicBezTo>
                <a:cubicBezTo>
                  <a:pt x="3104" y="475"/>
                  <a:pt x="2939" y="362"/>
                  <a:pt x="2886" y="207"/>
                </a:cubicBezTo>
                <a:cubicBezTo>
                  <a:pt x="2893" y="169"/>
                  <a:pt x="2890" y="127"/>
                  <a:pt x="2907" y="92"/>
                </a:cubicBezTo>
                <a:cubicBezTo>
                  <a:pt x="2932" y="40"/>
                  <a:pt x="3050" y="15"/>
                  <a:pt x="3096" y="4"/>
                </a:cubicBezTo>
                <a:cubicBezTo>
                  <a:pt x="3155" y="6"/>
                  <a:pt x="3215" y="0"/>
                  <a:pt x="3273" y="11"/>
                </a:cubicBezTo>
                <a:cubicBezTo>
                  <a:pt x="3524" y="59"/>
                  <a:pt x="3632" y="361"/>
                  <a:pt x="3727" y="559"/>
                </a:cubicBezTo>
                <a:cubicBezTo>
                  <a:pt x="3884" y="885"/>
                  <a:pt x="4102" y="1170"/>
                  <a:pt x="4486" y="1203"/>
                </a:cubicBezTo>
                <a:cubicBezTo>
                  <a:pt x="4572" y="1196"/>
                  <a:pt x="4658" y="1196"/>
                  <a:pt x="4743" y="1183"/>
                </a:cubicBezTo>
                <a:cubicBezTo>
                  <a:pt x="4897" y="1160"/>
                  <a:pt x="5070" y="1083"/>
                  <a:pt x="5204" y="1007"/>
                </a:cubicBezTo>
                <a:cubicBezTo>
                  <a:pt x="5524" y="826"/>
                  <a:pt x="5823" y="626"/>
                  <a:pt x="5970" y="275"/>
                </a:cubicBezTo>
                <a:cubicBezTo>
                  <a:pt x="5983" y="201"/>
                  <a:pt x="6006" y="107"/>
                  <a:pt x="5949" y="44"/>
                </a:cubicBezTo>
                <a:cubicBezTo>
                  <a:pt x="5938" y="31"/>
                  <a:pt x="5879" y="9"/>
                  <a:pt x="5868" y="4"/>
                </a:cubicBezTo>
                <a:cubicBezTo>
                  <a:pt x="5588" y="17"/>
                  <a:pt x="5459" y="117"/>
                  <a:pt x="5204" y="261"/>
                </a:cubicBezTo>
                <a:cubicBezTo>
                  <a:pt x="4696" y="548"/>
                  <a:pt x="4895" y="511"/>
                  <a:pt x="4519" y="763"/>
                </a:cubicBezTo>
                <a:cubicBezTo>
                  <a:pt x="4300" y="910"/>
                  <a:pt x="4090" y="1070"/>
                  <a:pt x="3862" y="1203"/>
                </a:cubicBezTo>
                <a:cubicBezTo>
                  <a:pt x="3148" y="1619"/>
                  <a:pt x="2288" y="2145"/>
                  <a:pt x="1463" y="2301"/>
                </a:cubicBezTo>
                <a:cubicBezTo>
                  <a:pt x="992" y="2390"/>
                  <a:pt x="1225" y="2355"/>
                  <a:pt x="765" y="2409"/>
                </a:cubicBezTo>
                <a:cubicBezTo>
                  <a:pt x="563" y="2398"/>
                  <a:pt x="252" y="2433"/>
                  <a:pt x="54" y="2301"/>
                </a:cubicBezTo>
                <a:cubicBezTo>
                  <a:pt x="24" y="2281"/>
                  <a:pt x="18" y="2238"/>
                  <a:pt x="0" y="2206"/>
                </a:cubicBezTo>
                <a:cubicBezTo>
                  <a:pt x="13" y="1998"/>
                  <a:pt x="10" y="1789"/>
                  <a:pt x="40" y="1583"/>
                </a:cubicBezTo>
                <a:cubicBezTo>
                  <a:pt x="65" y="1412"/>
                  <a:pt x="271" y="1115"/>
                  <a:pt x="386" y="986"/>
                </a:cubicBezTo>
                <a:cubicBezTo>
                  <a:pt x="744" y="585"/>
                  <a:pt x="1214" y="260"/>
                  <a:pt x="1761" y="214"/>
                </a:cubicBezTo>
                <a:cubicBezTo>
                  <a:pt x="1863" y="220"/>
                  <a:pt x="1951" y="219"/>
                  <a:pt x="2033" y="288"/>
                </a:cubicBezTo>
                <a:cubicBezTo>
                  <a:pt x="2295" y="509"/>
                  <a:pt x="2309" y="963"/>
                  <a:pt x="2710" y="1027"/>
                </a:cubicBezTo>
                <a:cubicBezTo>
                  <a:pt x="2773" y="1020"/>
                  <a:pt x="2837" y="1017"/>
                  <a:pt x="2900" y="1007"/>
                </a:cubicBezTo>
                <a:cubicBezTo>
                  <a:pt x="3058" y="983"/>
                  <a:pt x="3209" y="885"/>
                  <a:pt x="3361" y="837"/>
                </a:cubicBezTo>
                <a:cubicBezTo>
                  <a:pt x="3703" y="730"/>
                  <a:pt x="4049" y="659"/>
                  <a:pt x="4404" y="614"/>
                </a:cubicBezTo>
                <a:cubicBezTo>
                  <a:pt x="4540" y="618"/>
                  <a:pt x="4606" y="584"/>
                  <a:pt x="4655" y="702"/>
                </a:cubicBezTo>
                <a:cubicBezTo>
                  <a:pt x="4578" y="1106"/>
                  <a:pt x="4120" y="1393"/>
                  <a:pt x="3754" y="1501"/>
                </a:cubicBezTo>
                <a:cubicBezTo>
                  <a:pt x="3567" y="1556"/>
                  <a:pt x="3501" y="1550"/>
                  <a:pt x="3313" y="1562"/>
                </a:cubicBezTo>
                <a:cubicBezTo>
                  <a:pt x="3293" y="1533"/>
                  <a:pt x="3246" y="1509"/>
                  <a:pt x="3252" y="1474"/>
                </a:cubicBezTo>
                <a:cubicBezTo>
                  <a:pt x="3278" y="1317"/>
                  <a:pt x="3477" y="1227"/>
                  <a:pt x="3591" y="1176"/>
                </a:cubicBezTo>
                <a:cubicBezTo>
                  <a:pt x="4087" y="955"/>
                  <a:pt x="4645" y="940"/>
                  <a:pt x="5177" y="925"/>
                </a:cubicBezTo>
                <a:cubicBezTo>
                  <a:pt x="6394" y="954"/>
                  <a:pt x="7335" y="1020"/>
                  <a:pt x="8490" y="1393"/>
                </a:cubicBezTo>
                <a:cubicBezTo>
                  <a:pt x="8549" y="1436"/>
                  <a:pt x="8649" y="1451"/>
                  <a:pt x="8667" y="1522"/>
                </a:cubicBezTo>
                <a:cubicBezTo>
                  <a:pt x="8826" y="2138"/>
                  <a:pt x="8329" y="2508"/>
                  <a:pt x="7833" y="2721"/>
                </a:cubicBezTo>
                <a:cubicBezTo>
                  <a:pt x="7687" y="2784"/>
                  <a:pt x="7535" y="2835"/>
                  <a:pt x="7379" y="2863"/>
                </a:cubicBezTo>
                <a:cubicBezTo>
                  <a:pt x="7207" y="2894"/>
                  <a:pt x="7031" y="2886"/>
                  <a:pt x="6857" y="2897"/>
                </a:cubicBezTo>
                <a:cubicBezTo>
                  <a:pt x="6187" y="2852"/>
                  <a:pt x="5524" y="2889"/>
                  <a:pt x="4946" y="2498"/>
                </a:cubicBezTo>
                <a:cubicBezTo>
                  <a:pt x="4746" y="2363"/>
                  <a:pt x="4693" y="2247"/>
                  <a:pt x="4567" y="2057"/>
                </a:cubicBezTo>
                <a:cubicBezTo>
                  <a:pt x="4539" y="1871"/>
                  <a:pt x="4510" y="1801"/>
                  <a:pt x="4553" y="1617"/>
                </a:cubicBezTo>
                <a:cubicBezTo>
                  <a:pt x="4666" y="1127"/>
                  <a:pt x="5025" y="766"/>
                  <a:pt x="5367" y="424"/>
                </a:cubicBezTo>
                <a:cubicBezTo>
                  <a:pt x="5371" y="420"/>
                  <a:pt x="5358" y="429"/>
                  <a:pt x="5353" y="431"/>
                </a:cubicBezTo>
                <a:cubicBezTo>
                  <a:pt x="5294" y="460"/>
                  <a:pt x="5236" y="490"/>
                  <a:pt x="5177" y="519"/>
                </a:cubicBezTo>
                <a:cubicBezTo>
                  <a:pt x="5105" y="555"/>
                  <a:pt x="5035" y="598"/>
                  <a:pt x="4960" y="627"/>
                </a:cubicBezTo>
                <a:cubicBezTo>
                  <a:pt x="4745" y="710"/>
                  <a:pt x="4477" y="819"/>
                  <a:pt x="4255" y="885"/>
                </a:cubicBezTo>
                <a:cubicBezTo>
                  <a:pt x="3945" y="978"/>
                  <a:pt x="3614" y="1062"/>
                  <a:pt x="3293" y="1115"/>
                </a:cubicBezTo>
                <a:cubicBezTo>
                  <a:pt x="2828" y="1193"/>
                  <a:pt x="2788" y="1183"/>
                  <a:pt x="2331" y="1210"/>
                </a:cubicBezTo>
                <a:cubicBezTo>
                  <a:pt x="1893" y="1194"/>
                  <a:pt x="1688" y="1267"/>
                  <a:pt x="1368" y="1074"/>
                </a:cubicBezTo>
                <a:cubicBezTo>
                  <a:pt x="1350" y="873"/>
                  <a:pt x="1573" y="732"/>
                  <a:pt x="1721" y="634"/>
                </a:cubicBezTo>
                <a:cubicBezTo>
                  <a:pt x="2216" y="307"/>
                  <a:pt x="2622" y="87"/>
                  <a:pt x="3225" y="65"/>
                </a:cubicBezTo>
                <a:cubicBezTo>
                  <a:pt x="3266" y="69"/>
                  <a:pt x="3308" y="65"/>
                  <a:pt x="3347" y="78"/>
                </a:cubicBezTo>
                <a:cubicBezTo>
                  <a:pt x="3465" y="118"/>
                  <a:pt x="3517" y="234"/>
                  <a:pt x="3564" y="336"/>
                </a:cubicBezTo>
                <a:cubicBezTo>
                  <a:pt x="3580" y="420"/>
                  <a:pt x="3595" y="503"/>
                  <a:pt x="3611" y="587"/>
                </a:cubicBezTo>
                <a:cubicBezTo>
                  <a:pt x="3651" y="801"/>
                  <a:pt x="3531" y="1036"/>
                  <a:pt x="3767" y="1122"/>
                </a:cubicBezTo>
                <a:cubicBezTo>
                  <a:pt x="4239" y="1080"/>
                  <a:pt x="4555" y="883"/>
                  <a:pt x="4980" y="668"/>
                </a:cubicBezTo>
                <a:cubicBezTo>
                  <a:pt x="5147" y="584"/>
                  <a:pt x="5350" y="444"/>
                  <a:pt x="5461" y="275"/>
                </a:cubicBezTo>
                <a:cubicBezTo>
                  <a:pt x="5470" y="242"/>
                  <a:pt x="5468" y="231"/>
                  <a:pt x="5434" y="221"/>
                </a:cubicBezTo>
                <a:cubicBezTo>
                  <a:pt x="5233" y="239"/>
                  <a:pt x="5071" y="333"/>
                  <a:pt x="4892" y="437"/>
                </a:cubicBezTo>
                <a:cubicBezTo>
                  <a:pt x="4618" y="595"/>
                  <a:pt x="4336" y="749"/>
                  <a:pt x="4065" y="912"/>
                </a:cubicBezTo>
                <a:cubicBezTo>
                  <a:pt x="4131" y="812"/>
                  <a:pt x="4082" y="882"/>
                  <a:pt x="4296" y="702"/>
                </a:cubicBezTo>
                <a:cubicBezTo>
                  <a:pt x="4604" y="443"/>
                  <a:pt x="4329" y="689"/>
                  <a:pt x="4621" y="431"/>
                </a:cubicBezTo>
                <a:cubicBezTo>
                  <a:pt x="4669" y="389"/>
                  <a:pt x="4713" y="342"/>
                  <a:pt x="4763" y="302"/>
                </a:cubicBezTo>
                <a:cubicBezTo>
                  <a:pt x="4795" y="277"/>
                  <a:pt x="4827" y="253"/>
                  <a:pt x="4858" y="227"/>
                </a:cubicBezTo>
                <a:cubicBezTo>
                  <a:pt x="4877" y="210"/>
                  <a:pt x="4896" y="192"/>
                  <a:pt x="4913" y="173"/>
                </a:cubicBezTo>
                <a:cubicBezTo>
                  <a:pt x="4921" y="165"/>
                  <a:pt x="4936" y="135"/>
                  <a:pt x="4933" y="146"/>
                </a:cubicBezTo>
                <a:cubicBezTo>
                  <a:pt x="4891" y="297"/>
                  <a:pt x="4884" y="204"/>
                  <a:pt x="4852" y="376"/>
                </a:cubicBezTo>
                <a:cubicBezTo>
                  <a:pt x="4843" y="426"/>
                  <a:pt x="4824" y="526"/>
                  <a:pt x="4824" y="526"/>
                </a:cubicBezTo>
                <a:cubicBezTo>
                  <a:pt x="4826" y="562"/>
                  <a:pt x="4826" y="598"/>
                  <a:pt x="4831" y="634"/>
                </a:cubicBezTo>
                <a:cubicBezTo>
                  <a:pt x="4846" y="744"/>
                  <a:pt x="4926" y="739"/>
                  <a:pt x="4980" y="797"/>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 name=""/>
          <p:cNvSpPr/>
          <p:nvPr/>
        </p:nvSpPr>
        <p:spPr>
          <a:xfrm>
            <a:off x="4047120" y="49417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a:t>
            </a:r>
            <a:endParaRPr b="0" lang="en-US" sz="1800" spc="-1" strike="noStrike">
              <a:solidFill>
                <a:srgbClr val="000000"/>
              </a:solidFill>
              <a:latin typeface="Arial"/>
            </a:endParaRPr>
          </a:p>
        </p:txBody>
      </p:sp>
      <p:sp>
        <p:nvSpPr>
          <p:cNvPr id="61" name=""/>
          <p:cNvSpPr/>
          <p:nvPr/>
        </p:nvSpPr>
        <p:spPr>
          <a:xfrm>
            <a:off x="-757080" y="404640"/>
            <a:ext cx="12468240" cy="2267280"/>
          </a:xfrm>
          <a:custGeom>
            <a:avLst/>
            <a:gdLst/>
            <a:ahLst/>
            <a:rect l="l" t="t" r="r" b="b"/>
            <a:pathLst>
              <a:path w="7854" h="1428">
                <a:moveTo>
                  <a:pt x="846" y="419"/>
                </a:moveTo>
                <a:cubicBezTo>
                  <a:pt x="867" y="449"/>
                  <a:pt x="887" y="474"/>
                  <a:pt x="921" y="486"/>
                </a:cubicBezTo>
                <a:cubicBezTo>
                  <a:pt x="1005" y="551"/>
                  <a:pt x="1110" y="614"/>
                  <a:pt x="1212" y="642"/>
                </a:cubicBezTo>
                <a:cubicBezTo>
                  <a:pt x="1238" y="649"/>
                  <a:pt x="1261" y="662"/>
                  <a:pt x="1287" y="669"/>
                </a:cubicBezTo>
                <a:cubicBezTo>
                  <a:pt x="1309" y="675"/>
                  <a:pt x="1355" y="683"/>
                  <a:pt x="1355" y="683"/>
                </a:cubicBezTo>
                <a:cubicBezTo>
                  <a:pt x="1411" y="681"/>
                  <a:pt x="1468" y="685"/>
                  <a:pt x="1524" y="676"/>
                </a:cubicBezTo>
                <a:cubicBezTo>
                  <a:pt x="1553" y="671"/>
                  <a:pt x="1578" y="653"/>
                  <a:pt x="1605" y="642"/>
                </a:cubicBezTo>
                <a:cubicBezTo>
                  <a:pt x="1677" y="613"/>
                  <a:pt x="1751" y="579"/>
                  <a:pt x="1809" y="527"/>
                </a:cubicBezTo>
                <a:cubicBezTo>
                  <a:pt x="1893" y="451"/>
                  <a:pt x="1946" y="357"/>
                  <a:pt x="2039" y="290"/>
                </a:cubicBezTo>
                <a:cubicBezTo>
                  <a:pt x="2056" y="278"/>
                  <a:pt x="2067" y="257"/>
                  <a:pt x="2086" y="249"/>
                </a:cubicBezTo>
                <a:cubicBezTo>
                  <a:pt x="2144" y="225"/>
                  <a:pt x="2222" y="215"/>
                  <a:pt x="2283" y="208"/>
                </a:cubicBezTo>
                <a:cubicBezTo>
                  <a:pt x="2447" y="213"/>
                  <a:pt x="2608" y="222"/>
                  <a:pt x="2771" y="229"/>
                </a:cubicBezTo>
                <a:cubicBezTo>
                  <a:pt x="3095" y="266"/>
                  <a:pt x="3390" y="353"/>
                  <a:pt x="3686" y="493"/>
                </a:cubicBezTo>
                <a:cubicBezTo>
                  <a:pt x="3720" y="509"/>
                  <a:pt x="3755" y="520"/>
                  <a:pt x="3787" y="540"/>
                </a:cubicBezTo>
                <a:cubicBezTo>
                  <a:pt x="3906" y="614"/>
                  <a:pt x="4026" y="682"/>
                  <a:pt x="4147" y="751"/>
                </a:cubicBezTo>
                <a:cubicBezTo>
                  <a:pt x="4239" y="804"/>
                  <a:pt x="4324" y="868"/>
                  <a:pt x="4431" y="886"/>
                </a:cubicBezTo>
                <a:cubicBezTo>
                  <a:pt x="4458" y="884"/>
                  <a:pt x="4486" y="887"/>
                  <a:pt x="4512" y="879"/>
                </a:cubicBezTo>
                <a:cubicBezTo>
                  <a:pt x="4571" y="861"/>
                  <a:pt x="4630" y="794"/>
                  <a:pt x="4675" y="757"/>
                </a:cubicBezTo>
                <a:cubicBezTo>
                  <a:pt x="4737" y="706"/>
                  <a:pt x="4802" y="658"/>
                  <a:pt x="4865" y="608"/>
                </a:cubicBezTo>
                <a:cubicBezTo>
                  <a:pt x="4912" y="571"/>
                  <a:pt x="4968" y="545"/>
                  <a:pt x="5014" y="507"/>
                </a:cubicBezTo>
                <a:cubicBezTo>
                  <a:pt x="5194" y="358"/>
                  <a:pt x="5350" y="233"/>
                  <a:pt x="5590" y="208"/>
                </a:cubicBezTo>
                <a:cubicBezTo>
                  <a:pt x="5640" y="213"/>
                  <a:pt x="5690" y="212"/>
                  <a:pt x="5739" y="222"/>
                </a:cubicBezTo>
                <a:cubicBezTo>
                  <a:pt x="5757" y="226"/>
                  <a:pt x="5769" y="242"/>
                  <a:pt x="5786" y="249"/>
                </a:cubicBezTo>
                <a:cubicBezTo>
                  <a:pt x="5921" y="308"/>
                  <a:pt x="6056" y="369"/>
                  <a:pt x="6186" y="439"/>
                </a:cubicBezTo>
                <a:cubicBezTo>
                  <a:pt x="6331" y="516"/>
                  <a:pt x="6099" y="400"/>
                  <a:pt x="6261" y="473"/>
                </a:cubicBezTo>
                <a:cubicBezTo>
                  <a:pt x="6297" y="489"/>
                  <a:pt x="6311" y="517"/>
                  <a:pt x="6349" y="527"/>
                </a:cubicBezTo>
                <a:cubicBezTo>
                  <a:pt x="6377" y="564"/>
                  <a:pt x="6393" y="592"/>
                  <a:pt x="6417" y="629"/>
                </a:cubicBezTo>
                <a:cubicBezTo>
                  <a:pt x="6529" y="572"/>
                  <a:pt x="6630" y="502"/>
                  <a:pt x="6742" y="446"/>
                </a:cubicBezTo>
                <a:cubicBezTo>
                  <a:pt x="6928" y="354"/>
                  <a:pt x="7127" y="286"/>
                  <a:pt x="7318" y="208"/>
                </a:cubicBezTo>
                <a:cubicBezTo>
                  <a:pt x="7348" y="196"/>
                  <a:pt x="7376" y="181"/>
                  <a:pt x="7406" y="168"/>
                </a:cubicBezTo>
                <a:cubicBezTo>
                  <a:pt x="7440" y="154"/>
                  <a:pt x="7474" y="141"/>
                  <a:pt x="7508" y="127"/>
                </a:cubicBezTo>
                <a:cubicBezTo>
                  <a:pt x="7545" y="112"/>
                  <a:pt x="7578" y="82"/>
                  <a:pt x="7616" y="66"/>
                </a:cubicBezTo>
                <a:cubicBezTo>
                  <a:pt x="7670" y="13"/>
                  <a:pt x="7652" y="0"/>
                  <a:pt x="7677" y="39"/>
                </a:cubicBezTo>
                <a:cubicBezTo>
                  <a:pt x="7679" y="57"/>
                  <a:pt x="7681" y="75"/>
                  <a:pt x="7684" y="93"/>
                </a:cubicBezTo>
                <a:cubicBezTo>
                  <a:pt x="7688" y="113"/>
                  <a:pt x="7697" y="154"/>
                  <a:pt x="7697" y="154"/>
                </a:cubicBezTo>
                <a:cubicBezTo>
                  <a:pt x="7693" y="324"/>
                  <a:pt x="7696" y="490"/>
                  <a:pt x="7630" y="649"/>
                </a:cubicBezTo>
                <a:cubicBezTo>
                  <a:pt x="7565" y="804"/>
                  <a:pt x="7615" y="673"/>
                  <a:pt x="7562" y="771"/>
                </a:cubicBezTo>
                <a:cubicBezTo>
                  <a:pt x="7513" y="862"/>
                  <a:pt x="7475" y="948"/>
                  <a:pt x="7392" y="1015"/>
                </a:cubicBezTo>
                <a:cubicBezTo>
                  <a:pt x="7360" y="1041"/>
                  <a:pt x="7319" y="1060"/>
                  <a:pt x="7277" y="1062"/>
                </a:cubicBezTo>
                <a:cubicBezTo>
                  <a:pt x="7126" y="1068"/>
                  <a:pt x="6823" y="1076"/>
                  <a:pt x="6823" y="1076"/>
                </a:cubicBezTo>
                <a:cubicBezTo>
                  <a:pt x="6605" y="1093"/>
                  <a:pt x="6399" y="1084"/>
                  <a:pt x="6179" y="1076"/>
                </a:cubicBezTo>
                <a:cubicBezTo>
                  <a:pt x="5982" y="1061"/>
                  <a:pt x="5793" y="1012"/>
                  <a:pt x="5603" y="961"/>
                </a:cubicBezTo>
                <a:cubicBezTo>
                  <a:pt x="5311" y="882"/>
                  <a:pt x="5019" y="808"/>
                  <a:pt x="4729" y="723"/>
                </a:cubicBezTo>
                <a:cubicBezTo>
                  <a:pt x="4712" y="718"/>
                  <a:pt x="4699" y="703"/>
                  <a:pt x="4682" y="696"/>
                </a:cubicBezTo>
                <a:cubicBezTo>
                  <a:pt x="4602" y="662"/>
                  <a:pt x="4514" y="632"/>
                  <a:pt x="4431" y="608"/>
                </a:cubicBezTo>
                <a:cubicBezTo>
                  <a:pt x="4285" y="565"/>
                  <a:pt x="4132" y="537"/>
                  <a:pt x="3984" y="500"/>
                </a:cubicBezTo>
                <a:cubicBezTo>
                  <a:pt x="3871" y="472"/>
                  <a:pt x="3761" y="429"/>
                  <a:pt x="3645" y="419"/>
                </a:cubicBezTo>
                <a:cubicBezTo>
                  <a:pt x="3569" y="403"/>
                  <a:pt x="3590" y="406"/>
                  <a:pt x="3516" y="398"/>
                </a:cubicBezTo>
                <a:cubicBezTo>
                  <a:pt x="3471" y="393"/>
                  <a:pt x="3381" y="385"/>
                  <a:pt x="3381" y="385"/>
                </a:cubicBezTo>
                <a:cubicBezTo>
                  <a:pt x="3239" y="388"/>
                  <a:pt x="3098" y="382"/>
                  <a:pt x="2961" y="425"/>
                </a:cubicBezTo>
                <a:cubicBezTo>
                  <a:pt x="2808" y="474"/>
                  <a:pt x="2672" y="545"/>
                  <a:pt x="2527" y="608"/>
                </a:cubicBezTo>
                <a:cubicBezTo>
                  <a:pt x="2488" y="625"/>
                  <a:pt x="2445" y="629"/>
                  <a:pt x="2405" y="642"/>
                </a:cubicBezTo>
                <a:cubicBezTo>
                  <a:pt x="2362" y="656"/>
                  <a:pt x="2321" y="679"/>
                  <a:pt x="2276" y="690"/>
                </a:cubicBezTo>
                <a:cubicBezTo>
                  <a:pt x="2157" y="719"/>
                  <a:pt x="2032" y="727"/>
                  <a:pt x="1910" y="737"/>
                </a:cubicBezTo>
                <a:cubicBezTo>
                  <a:pt x="1718" y="733"/>
                  <a:pt x="1606" y="735"/>
                  <a:pt x="1443" y="717"/>
                </a:cubicBezTo>
                <a:cubicBezTo>
                  <a:pt x="1270" y="677"/>
                  <a:pt x="1084" y="672"/>
                  <a:pt x="907" y="656"/>
                </a:cubicBezTo>
                <a:cubicBezTo>
                  <a:pt x="867" y="646"/>
                  <a:pt x="853" y="616"/>
                  <a:pt x="819" y="595"/>
                </a:cubicBezTo>
                <a:cubicBezTo>
                  <a:pt x="723" y="535"/>
                  <a:pt x="611" y="514"/>
                  <a:pt x="501" y="500"/>
                </a:cubicBezTo>
                <a:cubicBezTo>
                  <a:pt x="389" y="463"/>
                  <a:pt x="264" y="455"/>
                  <a:pt x="148" y="446"/>
                </a:cubicBezTo>
                <a:cubicBezTo>
                  <a:pt x="119" y="444"/>
                  <a:pt x="60" y="439"/>
                  <a:pt x="60" y="439"/>
                </a:cubicBezTo>
                <a:cubicBezTo>
                  <a:pt x="0" y="418"/>
                  <a:pt x="182" y="406"/>
                  <a:pt x="189" y="405"/>
                </a:cubicBezTo>
                <a:cubicBezTo>
                  <a:pt x="270" y="398"/>
                  <a:pt x="352" y="392"/>
                  <a:pt x="433" y="385"/>
                </a:cubicBezTo>
                <a:cubicBezTo>
                  <a:pt x="568" y="374"/>
                  <a:pt x="704" y="376"/>
                  <a:pt x="840" y="371"/>
                </a:cubicBezTo>
                <a:cubicBezTo>
                  <a:pt x="1225" y="377"/>
                  <a:pt x="1608" y="389"/>
                  <a:pt x="1992" y="412"/>
                </a:cubicBezTo>
                <a:cubicBezTo>
                  <a:pt x="2083" y="425"/>
                  <a:pt x="2217" y="425"/>
                  <a:pt x="2310" y="473"/>
                </a:cubicBezTo>
                <a:cubicBezTo>
                  <a:pt x="2293" y="539"/>
                  <a:pt x="2156" y="625"/>
                  <a:pt x="2100" y="656"/>
                </a:cubicBezTo>
                <a:cubicBezTo>
                  <a:pt x="1900" y="767"/>
                  <a:pt x="1690" y="865"/>
                  <a:pt x="1477" y="947"/>
                </a:cubicBezTo>
                <a:cubicBezTo>
                  <a:pt x="1398" y="977"/>
                  <a:pt x="1329" y="1010"/>
                  <a:pt x="1246" y="1028"/>
                </a:cubicBezTo>
                <a:cubicBezTo>
                  <a:pt x="1235" y="1026"/>
                  <a:pt x="1217" y="1033"/>
                  <a:pt x="1212" y="1022"/>
                </a:cubicBezTo>
                <a:cubicBezTo>
                  <a:pt x="1205" y="1005"/>
                  <a:pt x="1216" y="985"/>
                  <a:pt x="1219" y="967"/>
                </a:cubicBezTo>
                <a:cubicBezTo>
                  <a:pt x="1225" y="935"/>
                  <a:pt x="1232" y="904"/>
                  <a:pt x="1239" y="873"/>
                </a:cubicBezTo>
                <a:cubicBezTo>
                  <a:pt x="1261" y="772"/>
                  <a:pt x="1276" y="670"/>
                  <a:pt x="1294" y="568"/>
                </a:cubicBezTo>
                <a:cubicBezTo>
                  <a:pt x="1292" y="552"/>
                  <a:pt x="1300" y="529"/>
                  <a:pt x="1287" y="520"/>
                </a:cubicBezTo>
                <a:cubicBezTo>
                  <a:pt x="1265" y="505"/>
                  <a:pt x="1191" y="547"/>
                  <a:pt x="1178" y="554"/>
                </a:cubicBezTo>
                <a:cubicBezTo>
                  <a:pt x="1096" y="599"/>
                  <a:pt x="1013" y="636"/>
                  <a:pt x="928" y="676"/>
                </a:cubicBezTo>
                <a:cubicBezTo>
                  <a:pt x="633" y="816"/>
                  <a:pt x="363" y="948"/>
                  <a:pt x="196" y="1238"/>
                </a:cubicBezTo>
                <a:cubicBezTo>
                  <a:pt x="207" y="1263"/>
                  <a:pt x="212" y="1293"/>
                  <a:pt x="230" y="1313"/>
                </a:cubicBezTo>
                <a:cubicBezTo>
                  <a:pt x="249" y="1334"/>
                  <a:pt x="368" y="1303"/>
                  <a:pt x="386" y="1299"/>
                </a:cubicBezTo>
                <a:cubicBezTo>
                  <a:pt x="531" y="1269"/>
                  <a:pt x="670" y="1227"/>
                  <a:pt x="813" y="1184"/>
                </a:cubicBezTo>
                <a:cubicBezTo>
                  <a:pt x="1243" y="1055"/>
                  <a:pt x="1701" y="1040"/>
                  <a:pt x="2127" y="900"/>
                </a:cubicBezTo>
                <a:cubicBezTo>
                  <a:pt x="2222" y="836"/>
                  <a:pt x="2181" y="863"/>
                  <a:pt x="2249" y="818"/>
                </a:cubicBezTo>
                <a:cubicBezTo>
                  <a:pt x="2281" y="797"/>
                  <a:pt x="2299" y="759"/>
                  <a:pt x="2324" y="730"/>
                </a:cubicBezTo>
                <a:cubicBezTo>
                  <a:pt x="2423" y="614"/>
                  <a:pt x="2501" y="475"/>
                  <a:pt x="2527" y="324"/>
                </a:cubicBezTo>
                <a:cubicBezTo>
                  <a:pt x="2520" y="322"/>
                  <a:pt x="2512" y="312"/>
                  <a:pt x="2507" y="317"/>
                </a:cubicBezTo>
                <a:cubicBezTo>
                  <a:pt x="2457" y="366"/>
                  <a:pt x="2425" y="454"/>
                  <a:pt x="2391" y="513"/>
                </a:cubicBezTo>
                <a:cubicBezTo>
                  <a:pt x="2367" y="554"/>
                  <a:pt x="2317" y="635"/>
                  <a:pt x="2317" y="635"/>
                </a:cubicBezTo>
                <a:cubicBezTo>
                  <a:pt x="2276" y="786"/>
                  <a:pt x="2263" y="770"/>
                  <a:pt x="2283" y="920"/>
                </a:cubicBezTo>
                <a:cubicBezTo>
                  <a:pt x="2306" y="1095"/>
                  <a:pt x="2527" y="1219"/>
                  <a:pt x="2683" y="1245"/>
                </a:cubicBezTo>
                <a:cubicBezTo>
                  <a:pt x="2727" y="1252"/>
                  <a:pt x="2773" y="1250"/>
                  <a:pt x="2818" y="1252"/>
                </a:cubicBezTo>
                <a:cubicBezTo>
                  <a:pt x="2917" y="1247"/>
                  <a:pt x="3132" y="1245"/>
                  <a:pt x="3245" y="1211"/>
                </a:cubicBezTo>
                <a:cubicBezTo>
                  <a:pt x="3429" y="1155"/>
                  <a:pt x="3820" y="1000"/>
                  <a:pt x="3950" y="859"/>
                </a:cubicBezTo>
                <a:cubicBezTo>
                  <a:pt x="3977" y="830"/>
                  <a:pt x="4002" y="799"/>
                  <a:pt x="4031" y="771"/>
                </a:cubicBezTo>
                <a:cubicBezTo>
                  <a:pt x="4104" y="701"/>
                  <a:pt x="4187" y="643"/>
                  <a:pt x="4248" y="561"/>
                </a:cubicBezTo>
                <a:cubicBezTo>
                  <a:pt x="4315" y="471"/>
                  <a:pt x="4370" y="376"/>
                  <a:pt x="4431" y="283"/>
                </a:cubicBezTo>
                <a:cubicBezTo>
                  <a:pt x="4444" y="234"/>
                  <a:pt x="4451" y="242"/>
                  <a:pt x="4357" y="263"/>
                </a:cubicBezTo>
                <a:cubicBezTo>
                  <a:pt x="4291" y="278"/>
                  <a:pt x="4243" y="332"/>
                  <a:pt x="4208" y="385"/>
                </a:cubicBezTo>
                <a:cubicBezTo>
                  <a:pt x="4215" y="412"/>
                  <a:pt x="4214" y="442"/>
                  <a:pt x="4228" y="466"/>
                </a:cubicBezTo>
                <a:cubicBezTo>
                  <a:pt x="4234" y="477"/>
                  <a:pt x="4250" y="479"/>
                  <a:pt x="4262" y="479"/>
                </a:cubicBezTo>
                <a:cubicBezTo>
                  <a:pt x="4405" y="479"/>
                  <a:pt x="4546" y="454"/>
                  <a:pt x="4689" y="446"/>
                </a:cubicBezTo>
                <a:cubicBezTo>
                  <a:pt x="4834" y="422"/>
                  <a:pt x="4947" y="420"/>
                  <a:pt x="5095" y="425"/>
                </a:cubicBezTo>
                <a:cubicBezTo>
                  <a:pt x="5143" y="473"/>
                  <a:pt x="5121" y="439"/>
                  <a:pt x="5095" y="561"/>
                </a:cubicBezTo>
                <a:cubicBezTo>
                  <a:pt x="5076" y="653"/>
                  <a:pt x="5012" y="722"/>
                  <a:pt x="4946" y="784"/>
                </a:cubicBezTo>
                <a:cubicBezTo>
                  <a:pt x="4732" y="986"/>
                  <a:pt x="4338" y="1056"/>
                  <a:pt x="4058" y="1083"/>
                </a:cubicBezTo>
                <a:cubicBezTo>
                  <a:pt x="3916" y="1096"/>
                  <a:pt x="3632" y="1110"/>
                  <a:pt x="3632" y="1110"/>
                </a:cubicBezTo>
                <a:cubicBezTo>
                  <a:pt x="3467" y="1103"/>
                  <a:pt x="3300" y="1105"/>
                  <a:pt x="3137" y="1076"/>
                </a:cubicBezTo>
                <a:cubicBezTo>
                  <a:pt x="3047" y="1039"/>
                  <a:pt x="3060" y="998"/>
                  <a:pt x="3028" y="920"/>
                </a:cubicBezTo>
                <a:cubicBezTo>
                  <a:pt x="3017" y="847"/>
                  <a:pt x="2987" y="753"/>
                  <a:pt x="3056" y="703"/>
                </a:cubicBezTo>
                <a:cubicBezTo>
                  <a:pt x="3321" y="725"/>
                  <a:pt x="3521" y="824"/>
                  <a:pt x="3767" y="927"/>
                </a:cubicBezTo>
                <a:cubicBezTo>
                  <a:pt x="3897" y="981"/>
                  <a:pt x="4029" y="1030"/>
                  <a:pt x="4160" y="1083"/>
                </a:cubicBezTo>
                <a:cubicBezTo>
                  <a:pt x="4547" y="1239"/>
                  <a:pt x="4963" y="1263"/>
                  <a:pt x="5373" y="1299"/>
                </a:cubicBezTo>
                <a:cubicBezTo>
                  <a:pt x="5439" y="1294"/>
                  <a:pt x="5557" y="1297"/>
                  <a:pt x="5631" y="1266"/>
                </a:cubicBezTo>
                <a:cubicBezTo>
                  <a:pt x="5671" y="1249"/>
                  <a:pt x="5746" y="1205"/>
                  <a:pt x="5746" y="1205"/>
                </a:cubicBezTo>
                <a:cubicBezTo>
                  <a:pt x="5835" y="1100"/>
                  <a:pt x="5886" y="1004"/>
                  <a:pt x="5956" y="879"/>
                </a:cubicBezTo>
                <a:cubicBezTo>
                  <a:pt x="6075" y="666"/>
                  <a:pt x="6192" y="460"/>
                  <a:pt x="6234" y="215"/>
                </a:cubicBezTo>
                <a:cubicBezTo>
                  <a:pt x="6201" y="48"/>
                  <a:pt x="6234" y="60"/>
                  <a:pt x="6085" y="100"/>
                </a:cubicBezTo>
                <a:cubicBezTo>
                  <a:pt x="5855" y="228"/>
                  <a:pt x="5754" y="479"/>
                  <a:pt x="5678" y="717"/>
                </a:cubicBezTo>
                <a:cubicBezTo>
                  <a:pt x="5638" y="1004"/>
                  <a:pt x="5741" y="1258"/>
                  <a:pt x="6024" y="1374"/>
                </a:cubicBezTo>
                <a:cubicBezTo>
                  <a:pt x="6124" y="1415"/>
                  <a:pt x="6237" y="1417"/>
                  <a:pt x="6342" y="1428"/>
                </a:cubicBezTo>
                <a:cubicBezTo>
                  <a:pt x="6880" y="1410"/>
                  <a:pt x="7248" y="1345"/>
                  <a:pt x="7725" y="1076"/>
                </a:cubicBezTo>
                <a:cubicBezTo>
                  <a:pt x="7822" y="922"/>
                  <a:pt x="7854" y="901"/>
                  <a:pt x="7765" y="615"/>
                </a:cubicBezTo>
                <a:cubicBezTo>
                  <a:pt x="7754" y="580"/>
                  <a:pt x="7693" y="624"/>
                  <a:pt x="7657" y="629"/>
                </a:cubicBezTo>
                <a:cubicBezTo>
                  <a:pt x="7608" y="644"/>
                  <a:pt x="7562" y="665"/>
                  <a:pt x="7514" y="683"/>
                </a:cubicBezTo>
                <a:cubicBezTo>
                  <a:pt x="7487" y="693"/>
                  <a:pt x="7433" y="717"/>
                  <a:pt x="7433" y="717"/>
                </a:cubicBezTo>
                <a:cubicBezTo>
                  <a:pt x="7368" y="694"/>
                  <a:pt x="7416" y="718"/>
                  <a:pt x="7406" y="568"/>
                </a:cubicBezTo>
                <a:cubicBezTo>
                  <a:pt x="7402" y="513"/>
                  <a:pt x="7401" y="407"/>
                  <a:pt x="7338" y="391"/>
                </a:cubicBezTo>
                <a:cubicBezTo>
                  <a:pt x="7120" y="429"/>
                  <a:pt x="6977" y="557"/>
                  <a:pt x="6776" y="635"/>
                </a:cubicBezTo>
                <a:cubicBezTo>
                  <a:pt x="6707" y="662"/>
                  <a:pt x="6630" y="661"/>
                  <a:pt x="6559" y="676"/>
                </a:cubicBezTo>
                <a:cubicBezTo>
                  <a:pt x="6352" y="671"/>
                  <a:pt x="6160" y="670"/>
                  <a:pt x="5956" y="696"/>
                </a:cubicBezTo>
                <a:cubicBezTo>
                  <a:pt x="5876" y="731"/>
                  <a:pt x="5811" y="738"/>
                  <a:pt x="5725" y="764"/>
                </a:cubicBezTo>
                <a:cubicBezTo>
                  <a:pt x="5553" y="815"/>
                  <a:pt x="5369" y="849"/>
                  <a:pt x="5190" y="866"/>
                </a:cubicBezTo>
                <a:cubicBezTo>
                  <a:pt x="5029" y="897"/>
                  <a:pt x="4865" y="925"/>
                  <a:pt x="4702" y="940"/>
                </a:cubicBezTo>
                <a:cubicBezTo>
                  <a:pt x="4639" y="946"/>
                  <a:pt x="4512" y="954"/>
                  <a:pt x="4512" y="954"/>
                </a:cubicBezTo>
                <a:cubicBezTo>
                  <a:pt x="4338" y="984"/>
                  <a:pt x="4160" y="1000"/>
                  <a:pt x="3984" y="1008"/>
                </a:cubicBezTo>
                <a:cubicBezTo>
                  <a:pt x="3806" y="1027"/>
                  <a:pt x="3628" y="1033"/>
                  <a:pt x="3449" y="1042"/>
                </a:cubicBezTo>
                <a:cubicBezTo>
                  <a:pt x="3265" y="1072"/>
                  <a:pt x="3371" y="1058"/>
                  <a:pt x="3144" y="1076"/>
                </a:cubicBezTo>
                <a:cubicBezTo>
                  <a:pt x="3115" y="1078"/>
                  <a:pt x="3085" y="1081"/>
                  <a:pt x="3056" y="1083"/>
                </a:cubicBezTo>
                <a:cubicBezTo>
                  <a:pt x="3029" y="1085"/>
                  <a:pt x="2974" y="1089"/>
                  <a:pt x="2974" y="1089"/>
                </a:cubicBezTo>
                <a:cubicBezTo>
                  <a:pt x="2852" y="1112"/>
                  <a:pt x="2732" y="1117"/>
                  <a:pt x="2608" y="1123"/>
                </a:cubicBezTo>
                <a:cubicBezTo>
                  <a:pt x="2271" y="1113"/>
                  <a:pt x="1936" y="1106"/>
                  <a:pt x="1599" y="1123"/>
                </a:cubicBezTo>
                <a:cubicBezTo>
                  <a:pt x="1450" y="1151"/>
                  <a:pt x="1296" y="1163"/>
                  <a:pt x="1145" y="1171"/>
                </a:cubicBezTo>
                <a:cubicBezTo>
                  <a:pt x="1007" y="1168"/>
                  <a:pt x="810" y="1250"/>
                  <a:pt x="731" y="1137"/>
                </a:cubicBezTo>
                <a:cubicBezTo>
                  <a:pt x="736" y="1118"/>
                  <a:pt x="739" y="1099"/>
                  <a:pt x="752" y="1083"/>
                </a:cubicBezTo>
                <a:cubicBezTo>
                  <a:pt x="801" y="1024"/>
                  <a:pt x="1015" y="962"/>
                  <a:pt x="1090" y="961"/>
                </a:cubicBezTo>
                <a:cubicBezTo>
                  <a:pt x="1368" y="959"/>
                  <a:pt x="1646" y="961"/>
                  <a:pt x="1924" y="961"/>
                </a:cubicBezTo>
              </a:path>
            </a:pathLst>
          </a:custGeom>
          <a:solidFill>
            <a:srgbClr val="0099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 name=""/>
          <p:cNvSpPr/>
          <p:nvPr/>
        </p:nvSpPr>
        <p:spPr>
          <a:xfrm>
            <a:off x="3492360" y="11592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Arial"/>
            </a:endParaRPr>
          </a:p>
        </p:txBody>
      </p:sp>
      <p:sp>
        <p:nvSpPr>
          <p:cNvPr id="63" name=""/>
          <p:cNvSpPr/>
          <p:nvPr/>
        </p:nvSpPr>
        <p:spPr>
          <a:xfrm>
            <a:off x="5013360" y="204840"/>
            <a:ext cx="1225440" cy="115092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 name=""/>
          <p:cNvSpPr/>
          <p:nvPr/>
        </p:nvSpPr>
        <p:spPr>
          <a:xfrm rot="16549800">
            <a:off x="5038920" y="297360"/>
            <a:ext cx="1225800" cy="115092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 name=""/>
          <p:cNvSpPr/>
          <p:nvPr/>
        </p:nvSpPr>
        <p:spPr>
          <a:xfrm rot="5400000">
            <a:off x="5109480" y="4906800"/>
            <a:ext cx="1082880" cy="86364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 name=""/>
          <p:cNvSpPr/>
          <p:nvPr/>
        </p:nvSpPr>
        <p:spPr>
          <a:xfrm>
            <a:off x="4788000" y="5529240"/>
            <a:ext cx="411120" cy="322200"/>
          </a:xfrm>
          <a:custGeom>
            <a:avLst/>
            <a:gdLst/>
            <a:ahLst/>
            <a:rect l="l" t="t" r="r" b="b"/>
            <a:pathLst>
              <a:path w="259" h="203">
                <a:moveTo>
                  <a:pt x="0" y="0"/>
                </a:moveTo>
                <a:cubicBezTo>
                  <a:pt x="8" y="12"/>
                  <a:pt x="20" y="34"/>
                  <a:pt x="33" y="41"/>
                </a:cubicBezTo>
                <a:cubicBezTo>
                  <a:pt x="62" y="57"/>
                  <a:pt x="87" y="56"/>
                  <a:pt x="115" y="75"/>
                </a:cubicBezTo>
                <a:cubicBezTo>
                  <a:pt x="155" y="137"/>
                  <a:pt x="197" y="126"/>
                  <a:pt x="250" y="163"/>
                </a:cubicBezTo>
                <a:cubicBezTo>
                  <a:pt x="259" y="189"/>
                  <a:pt x="257" y="176"/>
                  <a:pt x="257" y="203"/>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5724360" y="5805360"/>
            <a:ext cx="1976760" cy="992160"/>
          </a:xfrm>
          <a:prstGeom prst="rect">
            <a:avLst/>
          </a:prstGeom>
          <a:ln w="0">
            <a:noFill/>
          </a:ln>
        </p:spPr>
      </p:pic>
      <p:pic>
        <p:nvPicPr>
          <p:cNvPr id="68" name="" descr=""/>
          <p:cNvPicPr/>
          <p:nvPr/>
        </p:nvPicPr>
        <p:blipFill>
          <a:blip r:embed="rId2"/>
          <a:stretch/>
        </p:blipFill>
        <p:spPr>
          <a:xfrm>
            <a:off x="5580000" y="4869000"/>
            <a:ext cx="1976400" cy="992160"/>
          </a:xfrm>
          <a:prstGeom prst="rect">
            <a:avLst/>
          </a:prstGeom>
          <a:ln w="0">
            <a:noFill/>
          </a:ln>
        </p:spPr>
      </p:pic>
      <p:pic>
        <p:nvPicPr>
          <p:cNvPr id="69" name="" descr=""/>
          <p:cNvPicPr/>
          <p:nvPr/>
        </p:nvPicPr>
        <p:blipFill>
          <a:blip r:embed="rId3"/>
          <a:stretch/>
        </p:blipFill>
        <p:spPr>
          <a:xfrm flipH="1">
            <a:off x="2484000" y="5661000"/>
            <a:ext cx="1839960" cy="992160"/>
          </a:xfrm>
          <a:prstGeom prst="rect">
            <a:avLst/>
          </a:prstGeom>
          <a:ln w="0">
            <a:noFill/>
          </a:ln>
        </p:spPr>
      </p:pic>
      <p:pic>
        <p:nvPicPr>
          <p:cNvPr id="70" name="" descr=""/>
          <p:cNvPicPr/>
          <p:nvPr/>
        </p:nvPicPr>
        <p:blipFill>
          <a:blip r:embed="rId4"/>
          <a:stretch/>
        </p:blipFill>
        <p:spPr>
          <a:xfrm>
            <a:off x="-108000" y="5157720"/>
            <a:ext cx="1976400" cy="992160"/>
          </a:xfrm>
          <a:prstGeom prst="rect">
            <a:avLst/>
          </a:prstGeom>
          <a:ln w="0">
            <a:noFill/>
          </a:ln>
        </p:spPr>
      </p:pic>
      <p:pic>
        <p:nvPicPr>
          <p:cNvPr id="71" name="" descr=""/>
          <p:cNvPicPr/>
          <p:nvPr/>
        </p:nvPicPr>
        <p:blipFill>
          <a:blip r:embed="rId5"/>
          <a:stretch/>
        </p:blipFill>
        <p:spPr>
          <a:xfrm flipH="1">
            <a:off x="1692000" y="4365720"/>
            <a:ext cx="2127240" cy="992160"/>
          </a:xfrm>
          <a:prstGeom prst="rect">
            <a:avLst/>
          </a:prstGeom>
          <a:ln w="0">
            <a:noFill/>
          </a:ln>
        </p:spPr>
      </p:pic>
      <p:pic>
        <p:nvPicPr>
          <p:cNvPr id="72" name="" descr=""/>
          <p:cNvPicPr/>
          <p:nvPr/>
        </p:nvPicPr>
        <p:blipFill>
          <a:blip r:embed="rId6"/>
          <a:stretch/>
        </p:blipFill>
        <p:spPr>
          <a:xfrm>
            <a:off x="6804000" y="1916280"/>
            <a:ext cx="2016000" cy="834840"/>
          </a:xfrm>
          <a:prstGeom prst="rect">
            <a:avLst/>
          </a:prstGeom>
          <a:ln w="0">
            <a:noFill/>
          </a:ln>
        </p:spPr>
      </p:pic>
      <p:pic>
        <p:nvPicPr>
          <p:cNvPr id="73" name="" descr=""/>
          <p:cNvPicPr/>
          <p:nvPr/>
        </p:nvPicPr>
        <p:blipFill>
          <a:blip r:embed="rId7"/>
          <a:stretch/>
        </p:blipFill>
        <p:spPr>
          <a:xfrm>
            <a:off x="4140360" y="1484280"/>
            <a:ext cx="1812600" cy="855720"/>
          </a:xfrm>
          <a:prstGeom prst="rect">
            <a:avLst/>
          </a:prstGeom>
          <a:ln w="0">
            <a:noFill/>
          </a:ln>
        </p:spPr>
      </p:pic>
      <p:pic>
        <p:nvPicPr>
          <p:cNvPr id="74" name="" descr=""/>
          <p:cNvPicPr/>
          <p:nvPr/>
        </p:nvPicPr>
        <p:blipFill>
          <a:blip r:embed="rId8"/>
          <a:stretch/>
        </p:blipFill>
        <p:spPr>
          <a:xfrm>
            <a:off x="324000" y="549360"/>
            <a:ext cx="3620880" cy="2054160"/>
          </a:xfrm>
          <a:prstGeom prst="rect">
            <a:avLst/>
          </a:prstGeom>
          <a:ln w="0">
            <a:noFill/>
          </a:ln>
        </p:spPr>
      </p:pic>
      <p:pic>
        <p:nvPicPr>
          <p:cNvPr id="75" name="" descr=""/>
          <p:cNvPicPr/>
          <p:nvPr/>
        </p:nvPicPr>
        <p:blipFill>
          <a:blip r:embed="rId9"/>
          <a:stretch/>
        </p:blipFill>
        <p:spPr>
          <a:xfrm>
            <a:off x="6516720" y="115920"/>
            <a:ext cx="2232000" cy="1168200"/>
          </a:xfrm>
          <a:prstGeom prst="rect">
            <a:avLst/>
          </a:prstGeom>
          <a:ln w="0">
            <a:noFill/>
          </a:ln>
        </p:spPr>
      </p:pic>
      <p:pic>
        <p:nvPicPr>
          <p:cNvPr id="76" name="" descr=""/>
          <p:cNvPicPr/>
          <p:nvPr/>
        </p:nvPicPr>
        <p:blipFill>
          <a:blip r:embed="rId10"/>
          <a:stretch/>
        </p:blipFill>
        <p:spPr>
          <a:xfrm>
            <a:off x="7740720" y="3357720"/>
            <a:ext cx="1554120" cy="988920"/>
          </a:xfrm>
          <a:prstGeom prst="rect">
            <a:avLst/>
          </a:prstGeom>
          <a:ln w="0">
            <a:noFill/>
          </a:ln>
        </p:spPr>
      </p:pic>
      <p:pic>
        <p:nvPicPr>
          <p:cNvPr id="77" name="" descr=""/>
          <p:cNvPicPr/>
          <p:nvPr/>
        </p:nvPicPr>
        <p:blipFill>
          <a:blip r:embed="rId11"/>
          <a:stretch/>
        </p:blipFill>
        <p:spPr>
          <a:xfrm>
            <a:off x="4211640" y="7893000"/>
            <a:ext cx="304920" cy="3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510"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57080" y="1052640"/>
            <a:ext cx="1990440" cy="1990440"/>
          </a:xfrm>
          <a:prstGeom prst="rect">
            <a:avLst/>
          </a:prstGeom>
          <a:ln w="0">
            <a:noFill/>
          </a:ln>
        </p:spPr>
      </p:pic>
      <p:pic>
        <p:nvPicPr>
          <p:cNvPr id="79" name="" descr=""/>
          <p:cNvPicPr/>
          <p:nvPr/>
        </p:nvPicPr>
        <p:blipFill>
          <a:blip r:embed="rId2"/>
          <a:stretch/>
        </p:blipFill>
        <p:spPr>
          <a:xfrm rot="16200000">
            <a:off x="1834920" y="0"/>
            <a:ext cx="1990800" cy="1990440"/>
          </a:xfrm>
          <a:prstGeom prst="rect">
            <a:avLst/>
          </a:prstGeom>
          <a:ln w="0">
            <a:noFill/>
          </a:ln>
        </p:spPr>
      </p:pic>
      <p:pic>
        <p:nvPicPr>
          <p:cNvPr id="80" name="" descr=""/>
          <p:cNvPicPr/>
          <p:nvPr/>
        </p:nvPicPr>
        <p:blipFill>
          <a:blip r:embed="rId3"/>
          <a:stretch/>
        </p:blipFill>
        <p:spPr>
          <a:xfrm>
            <a:off x="2556000" y="1628640"/>
            <a:ext cx="3085920" cy="2000520"/>
          </a:xfrm>
          <a:prstGeom prst="rect">
            <a:avLst/>
          </a:prstGeom>
          <a:ln w="0">
            <a:noFill/>
          </a:ln>
        </p:spPr>
      </p:pic>
      <p:pic>
        <p:nvPicPr>
          <p:cNvPr id="81" name="" descr=""/>
          <p:cNvPicPr/>
          <p:nvPr/>
        </p:nvPicPr>
        <p:blipFill>
          <a:blip r:embed="rId4"/>
          <a:stretch/>
        </p:blipFill>
        <p:spPr>
          <a:xfrm rot="10800000">
            <a:off x="0" y="0"/>
            <a:ext cx="1990800" cy="1990800"/>
          </a:xfrm>
          <a:prstGeom prst="rect">
            <a:avLst/>
          </a:prstGeom>
          <a:ln w="0">
            <a:noFill/>
          </a:ln>
        </p:spPr>
      </p:pic>
      <p:sp>
        <p:nvSpPr>
          <p:cNvPr id="82" name=""/>
          <p:cNvSpPr/>
          <p:nvPr/>
        </p:nvSpPr>
        <p:spPr>
          <a:xfrm flipV="1">
            <a:off x="1042920" y="4508280"/>
            <a:ext cx="14436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627280" y="2421000"/>
            <a:ext cx="2881440" cy="2872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6200000">
            <a:off x="5759280" y="1880640"/>
            <a:ext cx="576360" cy="1224000"/>
          </a:xfrm>
          <a:prstGeom prst="can">
            <a:avLst>
              <a:gd name="adj"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300720" y="260280"/>
            <a:ext cx="3672000" cy="3384720"/>
          </a:xfrm>
          <a:prstGeom prst="cube">
            <a:avLst>
              <a:gd name="adj" fmla="val 25000"/>
            </a:avLst>
          </a:prstGeom>
          <a:solidFill>
            <a:srgbClr val="a4ca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ubL"/>
          <p:cNvSpPr/>
          <p:nvPr/>
        </p:nvSpPr>
        <p:spPr>
          <a:xfrm>
            <a:off x="2627280" y="3357720"/>
            <a:ext cx="1828800" cy="1828800"/>
          </a:xfrm>
          <a:custGeom>
            <a:avLst/>
            <a:gdLst>
              <a:gd name="textAreaLeft" fmla="*/ 0 w 1828800"/>
              <a:gd name="textAreaRight" fmla="*/ 1829160 w 1828800"/>
              <a:gd name="textAreaTop" fmla="*/ 914400 h 1828800"/>
              <a:gd name="textAreaBottom" fmla="*/ 1829160 h 182880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4809960" y="3622680"/>
            <a:ext cx="936720" cy="2276280"/>
          </a:xfrm>
          <a:prstGeom prst="can">
            <a:avLst>
              <a:gd name="adj" fmla="val 25000"/>
            </a:avLst>
          </a:prstGeom>
          <a:solidFill>
            <a:srgbClr val="8d87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00720" y="429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28472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16360" y="2421000"/>
            <a:ext cx="1429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348000" y="2492280"/>
            <a:ext cx="14436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08360" y="256536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067280" y="256536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427640" y="256536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859280" y="2637000"/>
            <a:ext cx="2890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492280"/>
            <a:ext cx="273528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35600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427640" y="429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11640" y="4508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43280" y="4508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11640" y="4437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140360" y="465300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0360" y="486900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211640" y="5084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PubChord"/>
          <p:cNvSpPr/>
          <p:nvPr/>
        </p:nvSpPr>
        <p:spPr>
          <a:xfrm rot="18957600">
            <a:off x="2484360" y="4292280"/>
            <a:ext cx="2266920" cy="2266920"/>
          </a:xfrm>
          <a:custGeom>
            <a:avLst/>
            <a:gdLst/>
            <a:ahLst/>
            <a:rect l="l" t="t" r="r" b="b"/>
            <a:pathLst>
              <a:path w="21600" h="21600">
                <a:moveTo>
                  <a:pt x="3163" y="3163"/>
                </a:moveTo>
                <a:arcTo wR="10800" hR="10800" stAng="-8100000" swAng="-10800000"/>
                <a:close/>
              </a:path>
            </a:pathLst>
          </a:custGeom>
          <a:solidFill>
            <a:srgbClr val="79eb8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059280" y="5373720"/>
            <a:ext cx="936360" cy="144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5"/>
          <a:stretch/>
        </p:blipFill>
        <p:spPr>
          <a:xfrm rot="16200000">
            <a:off x="6192720" y="4183920"/>
            <a:ext cx="1917720" cy="1990800"/>
          </a:xfrm>
          <a:prstGeom prst="rect">
            <a:avLst/>
          </a:prstGeom>
          <a:ln w="0">
            <a:noFill/>
          </a:ln>
        </p:spPr>
      </p:pic>
      <p:sp>
        <p:nvSpPr>
          <p:cNvPr id="109" name=""/>
          <p:cNvSpPr/>
          <p:nvPr/>
        </p:nvSpPr>
        <p:spPr>
          <a:xfrm>
            <a:off x="7164360" y="6021360"/>
            <a:ext cx="792360" cy="836640"/>
          </a:xfrm>
          <a:custGeom>
            <a:avLst/>
            <a:gdLst>
              <a:gd name="textAreaLeft" fmla="*/ 174240 w 792360"/>
              <a:gd name="textAreaRight" fmla="*/ 618120 w 792360"/>
              <a:gd name="textAreaTop" fmla="*/ 183960 h 836640"/>
              <a:gd name="textAreaBottom" fmla="*/ 652680 h 83664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824200" y="5608800"/>
            <a:ext cx="13874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703240" y="5661000"/>
            <a:ext cx="176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 and rocks</a:t>
            </a:r>
            <a:endParaRPr b="0" lang="en-US" sz="1800" spc="-1" strike="noStrike">
              <a:solidFill>
                <a:srgbClr val="000000"/>
              </a:solidFill>
              <a:latin typeface="Arial"/>
            </a:endParaRPr>
          </a:p>
        </p:txBody>
      </p:sp>
      <p:sp>
        <p:nvSpPr>
          <p:cNvPr id="112" name=""/>
          <p:cNvSpPr/>
          <p:nvPr/>
        </p:nvSpPr>
        <p:spPr>
          <a:xfrm>
            <a:off x="6516720" y="836640"/>
            <a:ext cx="2484360" cy="2763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ubbish dump</a:t>
            </a: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from above goes underground to the sewage system through the pipes and through the first net, to take out the large solids, and rubbish that is caught  by the water. The net is Diagonal so that once the water goes through the net the rubbish will stay back and slide down the net into the tube and into the Rubbish Dump. This rubbish is then recycled.</a:t>
            </a:r>
            <a:endParaRPr b="0" lang="en-US" sz="1200" spc="-1" strike="noStrike">
              <a:solidFill>
                <a:srgbClr val="000000"/>
              </a:solidFill>
              <a:latin typeface="Arial"/>
            </a:endParaRPr>
          </a:p>
        </p:txBody>
      </p:sp>
      <p:sp>
        <p:nvSpPr>
          <p:cNvPr id="113" name=""/>
          <p:cNvSpPr/>
          <p:nvPr/>
        </p:nvSpPr>
        <p:spPr>
          <a:xfrm>
            <a:off x="158760" y="3881520"/>
            <a:ext cx="19652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11280" y="3429000"/>
            <a:ext cx="1800000" cy="3109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nd and rock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goes through the net of rubbish the water goes down the purple pipe, and through, the smaller net to remove rocks and sand. Once the water has passed the sand and rocks are left on  the net and eventually falls into the storage of sand and rocks. These rock and sand are then used for human needs.</a:t>
            </a:r>
            <a:endParaRPr b="0" lang="en-US" sz="1200" spc="-1" strike="noStrike">
              <a:solidFill>
                <a:srgbClr val="000000"/>
              </a:solidFill>
              <a:latin typeface="Arial"/>
            </a:endParaRPr>
          </a:p>
        </p:txBody>
      </p:sp>
      <p:pic>
        <p:nvPicPr>
          <p:cNvPr id="115" name="" descr=""/>
          <p:cNvPicPr/>
          <p:nvPr/>
        </p:nvPicPr>
        <p:blipFill>
          <a:blip r:embed="rId6"/>
          <a:stretch/>
        </p:blipFill>
        <p:spPr>
          <a:xfrm>
            <a:off x="6588000" y="7821720"/>
            <a:ext cx="304920" cy="304560"/>
          </a:xfrm>
          <a:prstGeom prst="rect">
            <a:avLst/>
          </a:prstGeom>
          <a:ln w="0">
            <a:noFill/>
          </a:ln>
        </p:spPr>
      </p:pic>
      <p:pic>
        <p:nvPicPr>
          <p:cNvPr id="116" name="" descr=""/>
          <p:cNvPicPr/>
          <p:nvPr/>
        </p:nvPicPr>
        <p:blipFill>
          <a:blip r:embed="rId7"/>
          <a:stretch/>
        </p:blipFill>
        <p:spPr>
          <a:xfrm>
            <a:off x="5003640" y="7389720"/>
            <a:ext cx="304920" cy="304920"/>
          </a:xfrm>
          <a:prstGeom prst="rect">
            <a:avLst/>
          </a:prstGeom>
          <a:ln w="0">
            <a:noFill/>
          </a:ln>
        </p:spPr>
      </p:pic>
      <p:pic>
        <p:nvPicPr>
          <p:cNvPr id="117" name="" descr=""/>
          <p:cNvPicPr/>
          <p:nvPr/>
        </p:nvPicPr>
        <p:blipFill>
          <a:blip r:embed="rId8"/>
          <a:stretch/>
        </p:blipFill>
        <p:spPr>
          <a:xfrm>
            <a:off x="4500720" y="7245360"/>
            <a:ext cx="304560" cy="30492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6506"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5"/>
                    </p:tgtEl>
                  </p:cond>
                </p:stCondLst>
                <p:childTnLst>
                  <p:par>
                    <p:cTn id="14" fill="hold">
                      <p:stCondLst>
                        <p:cond evt="onClick">
                          <p:tgtEl>
                            <p:spTgt spid="115"/>
                          </p:tgtEl>
                        </p:cond>
                      </p:stCondLst>
                      <p:childTnLst>
                        <p:par>
                          <p:cTn id="15" fill="hold">
                            <p:stCondLst>
                              <p:cond delay="0"/>
                            </p:stCondLst>
                            <p:childTnLst>
                              <p:par>
                                <p:cTn id="16" nodeType="clickEffect" fill="hold" presetClass="mediacall" presetID="1">
                                  <p:stCondLst>
                                    <p:cond delay="0"/>
                                  </p:stCondLst>
                                  <p:childTnLst>
                                    <p:cmd type="call" cmd="playFrom(0.0)">
                                      <p:cBhvr>
                                        <p:cTn id="17" dur="6506"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6"/>
                    </p:tgtEl>
                  </p:cond>
                </p:stCondLst>
                <p:childTnLst>
                  <p:par>
                    <p:cTn id="19" fill="hold">
                      <p:stCondLst>
                        <p:cond evt="onClick">
                          <p:tgtEl>
                            <p:spTgt spid="116"/>
                          </p:tgtEl>
                        </p:cond>
                      </p:stCondLst>
                      <p:childTnLst>
                        <p:par>
                          <p:cTn id="20" fill="hold">
                            <p:stCondLst>
                              <p:cond delay="0"/>
                            </p:stCondLst>
                            <p:childTnLst>
                              <p:par>
                                <p:cTn id="21" nodeType="clickEffect" fill="hold" presetClass="mediacall" presetID="1">
                                  <p:stCondLst>
                                    <p:cond delay="0"/>
                                  </p:stCondLst>
                                  <p:childTnLst>
                                    <p:cmd type="call" cmd="playFrom(0.0)">
                                      <p:cBhvr>
                                        <p:cTn id="22" dur="6506"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740720" y="0"/>
            <a:ext cx="865080" cy="981000"/>
          </a:xfrm>
          <a:custGeom>
            <a:avLst/>
            <a:gdLst>
              <a:gd name="textAreaLeft" fmla="*/ 190080 w 865080"/>
              <a:gd name="textAreaRight" fmla="*/ 675000 w 865080"/>
              <a:gd name="textAreaTop" fmla="*/ 215640 h 981000"/>
              <a:gd name="textAreaBottom" fmla="*/ 765360 h 98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10040" y="100188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956720" y="692280"/>
            <a:ext cx="431640" cy="12240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00720" y="1557360"/>
            <a:ext cx="3816360" cy="1655640"/>
          </a:xfrm>
          <a:prstGeom prst="plus">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rot="1650000">
            <a:off x="539280" y="2997360"/>
            <a:ext cx="4032360" cy="4316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360" y="2133720"/>
            <a:ext cx="4032000" cy="431640"/>
          </a:xfrm>
          <a:prstGeom prst="cube">
            <a:avLst>
              <a:gd name="adj"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47640" y="5300640"/>
            <a:ext cx="287640" cy="720720"/>
          </a:xfrm>
          <a:custGeom>
            <a:avLst/>
            <a:gdLst>
              <a:gd name="textAreaLeft" fmla="*/ 14040 w 287640"/>
              <a:gd name="textAreaRight" fmla="*/ 273600 w 287640"/>
              <a:gd name="textAreaTop" fmla="*/ 14040 h 720720"/>
              <a:gd name="textAreaBottom" fmla="*/ 706680 h 720720"/>
            </a:gdLst>
            <a:ahLst/>
            <a:rect l="textAreaLeft" t="textAreaTop" r="textAreaRight" b="textAreaBottom"/>
            <a:pathLst>
              <a:path w="21600" h="54081">
                <a:moveTo>
                  <a:pt x="3600" y="0"/>
                </a:moveTo>
                <a:arcTo wR="3600" hR="3600" stAng="16200000" swAng="-5400000"/>
                <a:lnTo>
                  <a:pt x="0" y="50481"/>
                </a:lnTo>
                <a:arcTo wR="3600" hR="3600" stAng="10800000" swAng="-5400000"/>
                <a:lnTo>
                  <a:pt x="18000" y="54081"/>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9796400">
            <a:off x="1332000" y="4508280"/>
            <a:ext cx="3313080" cy="431640"/>
          </a:xfrm>
          <a:prstGeom prst="cube">
            <a:avLst>
              <a:gd name="adj" fmla="val 25000"/>
            </a:avLst>
          </a:prstGeom>
          <a:solidFill>
            <a:srgbClr val="79eb8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10800000">
            <a:off x="1258560" y="5876640"/>
            <a:ext cx="865080" cy="981000"/>
          </a:xfrm>
          <a:custGeom>
            <a:avLst/>
            <a:gdLst>
              <a:gd name="textAreaLeft" fmla="*/ 190080 w 865080"/>
              <a:gd name="textAreaRight" fmla="*/ 675000 w 865080"/>
              <a:gd name="textAreaTop" fmla="*/ 215640 h 981000"/>
              <a:gd name="textAreaBottom" fmla="*/ 765360 h 98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2543600">
            <a:off x="2050200" y="2707560"/>
            <a:ext cx="71640" cy="1443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2543600">
            <a:off x="1907280" y="2996640"/>
            <a:ext cx="71640" cy="1443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483800">
            <a:off x="1907640" y="2781000"/>
            <a:ext cx="216000" cy="287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8439000">
            <a:off x="3058920" y="4365360"/>
            <a:ext cx="69840" cy="156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8439000">
            <a:off x="3276360" y="4581000"/>
            <a:ext cx="69840" cy="1573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9441800">
            <a:off x="3132000" y="4437000"/>
            <a:ext cx="160560" cy="252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59280" y="3500280"/>
            <a:ext cx="23036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Sponge Push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ce the water passes all the pipes and into the colourful bars, the water will get caught into the sponges and the red pushers react due to the moist in the water. When the water travels back down the pipe, the deadly chemicals are being left behind and are used to generate the pushers, beginning the cycle again.</a:t>
            </a:r>
            <a:endParaRPr b="0" lang="en-US" sz="1200" spc="-1" strike="noStrike">
              <a:solidFill>
                <a:srgbClr val="000000"/>
              </a:solidFill>
              <a:latin typeface="Arial"/>
            </a:endParaRPr>
          </a:p>
        </p:txBody>
      </p:sp>
      <p:pic>
        <p:nvPicPr>
          <p:cNvPr id="134" name="" descr=""/>
          <p:cNvPicPr/>
          <p:nvPr/>
        </p:nvPicPr>
        <p:blipFill>
          <a:blip r:embed="rId1"/>
          <a:stretch/>
        </p:blipFill>
        <p:spPr>
          <a:xfrm flipH="1">
            <a:off x="4932360" y="2276640"/>
            <a:ext cx="2952720" cy="933120"/>
          </a:xfrm>
          <a:prstGeom prst="rect">
            <a:avLst/>
          </a:prstGeom>
          <a:ln w="0">
            <a:noFill/>
          </a:ln>
        </p:spPr>
      </p:pic>
      <p:pic>
        <p:nvPicPr>
          <p:cNvPr id="135" name="" descr=""/>
          <p:cNvPicPr/>
          <p:nvPr/>
        </p:nvPicPr>
        <p:blipFill>
          <a:blip r:embed="rId2"/>
          <a:stretch/>
        </p:blipFill>
        <p:spPr>
          <a:xfrm>
            <a:off x="5580000" y="7029360"/>
            <a:ext cx="304920" cy="30492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308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1042920" cy="836640"/>
          </a:xfrm>
          <a:custGeom>
            <a:avLst/>
            <a:gdLst>
              <a:gd name="textAreaLeft" fmla="*/ 229320 w 1042920"/>
              <a:gd name="textAreaRight" fmla="*/ 813600 w 1042920"/>
              <a:gd name="textAreaTop" fmla="*/ 183960 h 836640"/>
              <a:gd name="textAreaBottom" fmla="*/ 652680 h 83664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50920" y="549360"/>
            <a:ext cx="576000" cy="1584360"/>
          </a:xfrm>
          <a:prstGeom prst="can">
            <a:avLst>
              <a:gd name="adj" fmla="val 2500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755640" y="1628640"/>
            <a:ext cx="1224000" cy="432000"/>
          </a:xfrm>
          <a:prstGeom prst="cube">
            <a:avLst>
              <a:gd name="adj"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08000" y="2060640"/>
            <a:ext cx="792360" cy="647640"/>
          </a:xfrm>
          <a:prstGeom prst="can">
            <a:avLst>
              <a:gd name="adj"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835280" y="1628640"/>
            <a:ext cx="1584360" cy="432000"/>
          </a:xfrm>
          <a:prstGeom prst="cube">
            <a:avLst>
              <a:gd name="adj" fmla="val 25000"/>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rot="10800000">
            <a:off x="2626920" y="259920"/>
            <a:ext cx="1514520" cy="1514520"/>
          </a:xfrm>
          <a:prstGeom prst="rect">
            <a:avLst/>
          </a:prstGeom>
          <a:ln w="0">
            <a:noFill/>
          </a:ln>
        </p:spPr>
      </p:pic>
      <p:sp>
        <p:nvSpPr>
          <p:cNvPr id="142" name=""/>
          <p:cNvSpPr/>
          <p:nvPr/>
        </p:nvSpPr>
        <p:spPr>
          <a:xfrm>
            <a:off x="5651640" y="0"/>
            <a:ext cx="3492360" cy="3213000"/>
          </a:xfrm>
          <a:prstGeom prst="cube">
            <a:avLst>
              <a:gd name="adj"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rot="5400000">
            <a:off x="3924000" y="333360"/>
            <a:ext cx="1916280" cy="1915920"/>
          </a:xfrm>
          <a:prstGeom prst="rect">
            <a:avLst/>
          </a:prstGeom>
          <a:ln w="0">
            <a:noFill/>
          </a:ln>
        </p:spPr>
      </p:pic>
      <p:pic>
        <p:nvPicPr>
          <p:cNvPr id="144" name="" descr=""/>
          <p:cNvPicPr/>
          <p:nvPr/>
        </p:nvPicPr>
        <p:blipFill>
          <a:blip r:embed="rId3"/>
          <a:stretch/>
        </p:blipFill>
        <p:spPr>
          <a:xfrm>
            <a:off x="6516720" y="0"/>
            <a:ext cx="797040" cy="863640"/>
          </a:xfrm>
          <a:prstGeom prst="rect">
            <a:avLst/>
          </a:prstGeom>
          <a:ln w="0">
            <a:noFill/>
          </a:ln>
        </p:spPr>
      </p:pic>
      <p:pic>
        <p:nvPicPr>
          <p:cNvPr id="145" name="" descr=""/>
          <p:cNvPicPr/>
          <p:nvPr/>
        </p:nvPicPr>
        <p:blipFill>
          <a:blip r:embed="rId4"/>
          <a:stretch/>
        </p:blipFill>
        <p:spPr>
          <a:xfrm>
            <a:off x="6877080" y="0"/>
            <a:ext cx="797040" cy="863640"/>
          </a:xfrm>
          <a:prstGeom prst="rect">
            <a:avLst/>
          </a:prstGeom>
          <a:ln w="0">
            <a:noFill/>
          </a:ln>
        </p:spPr>
      </p:pic>
      <p:pic>
        <p:nvPicPr>
          <p:cNvPr id="146" name="" descr=""/>
          <p:cNvPicPr/>
          <p:nvPr/>
        </p:nvPicPr>
        <p:blipFill>
          <a:blip r:embed="rId5"/>
          <a:stretch/>
        </p:blipFill>
        <p:spPr>
          <a:xfrm>
            <a:off x="1547640" y="2498760"/>
            <a:ext cx="3240360" cy="3017880"/>
          </a:xfrm>
          <a:prstGeom prst="rect">
            <a:avLst/>
          </a:prstGeom>
          <a:ln w="0">
            <a:noFill/>
          </a:ln>
        </p:spPr>
      </p:pic>
      <p:sp>
        <p:nvSpPr>
          <p:cNvPr id="147" name=""/>
          <p:cNvSpPr/>
          <p:nvPr/>
        </p:nvSpPr>
        <p:spPr>
          <a:xfrm>
            <a:off x="5796000" y="765000"/>
            <a:ext cx="248616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Sludge Remov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travels through the black and yel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pes and down the brown pipes but there is another net with smaller holes. When the water continues to travel and leave the sludge behind. Meanwhile the sludge activated fans suck up the sludge and into the sludge removal area, where it is turned into more power for the fans to generate.</a:t>
            </a:r>
            <a:endParaRPr b="0" lang="en-US" sz="1200" spc="-1" strike="noStrike">
              <a:solidFill>
                <a:srgbClr val="000000"/>
              </a:solidFill>
              <a:latin typeface="Arial"/>
            </a:endParaRPr>
          </a:p>
        </p:txBody>
      </p:sp>
      <p:sp>
        <p:nvSpPr>
          <p:cNvPr id="148" name="DiagonalStripe"/>
          <p:cNvSpPr/>
          <p:nvPr/>
        </p:nvSpPr>
        <p:spPr>
          <a:xfrm rot="2605200">
            <a:off x="4409640" y="4373280"/>
            <a:ext cx="1440000" cy="1396800"/>
          </a:xfrm>
          <a:custGeom>
            <a:avLst/>
            <a:gdLst>
              <a:gd name="textAreaLeft" fmla="*/ 0 w 1440000"/>
              <a:gd name="textAreaRight" fmla="*/ 1083960 w 1440000"/>
              <a:gd name="textAreaTop" fmla="*/ 0 h 1396800"/>
              <a:gd name="textAreaBottom" fmla="*/ 1051200 h 1396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DiagonalStripe"/>
          <p:cNvSpPr/>
          <p:nvPr/>
        </p:nvSpPr>
        <p:spPr>
          <a:xfrm rot="8082000">
            <a:off x="2410560" y="4869000"/>
            <a:ext cx="1296720" cy="1295640"/>
          </a:xfrm>
          <a:custGeom>
            <a:avLst/>
            <a:gdLst>
              <a:gd name="textAreaLeft" fmla="*/ 0 w 1296720"/>
              <a:gd name="textAreaRight" fmla="*/ 975960 w 1296720"/>
              <a:gd name="textAreaTop" fmla="*/ 0 h 1295640"/>
              <a:gd name="textAreaBottom" fmla="*/ 975240 h 1295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908000" y="2133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979640" y="2205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50920" y="20606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195640" y="2060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40000" y="2060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76720" y="4581360"/>
            <a:ext cx="7164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59280" y="5516640"/>
            <a:ext cx="504720" cy="73080"/>
          </a:xfrm>
          <a:prstGeom prst="ellipse">
            <a:avLst/>
          </a:prstGeom>
          <a:no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059280" y="5445000"/>
            <a:ext cx="433080" cy="7164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8" name=""/>
          <p:cNvSpPr/>
          <p:nvPr/>
        </p:nvSpPr>
        <p:spPr>
          <a:xfrm>
            <a:off x="3059280" y="544500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9" name=""/>
          <p:cNvSpPr/>
          <p:nvPr/>
        </p:nvSpPr>
        <p:spPr>
          <a:xfrm flipH="1">
            <a:off x="5076360" y="4581360"/>
            <a:ext cx="71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 descr=""/>
          <p:cNvPicPr/>
          <p:nvPr/>
        </p:nvPicPr>
        <p:blipFill>
          <a:blip r:embed="rId6"/>
          <a:stretch/>
        </p:blipFill>
        <p:spPr>
          <a:xfrm rot="10800000">
            <a:off x="2700360" y="4723920"/>
            <a:ext cx="2952720" cy="1791000"/>
          </a:xfrm>
          <a:prstGeom prst="rect">
            <a:avLst/>
          </a:prstGeom>
          <a:ln w="0">
            <a:noFill/>
          </a:ln>
        </p:spPr>
      </p:pic>
      <p:sp>
        <p:nvSpPr>
          <p:cNvPr id="161" name=""/>
          <p:cNvSpPr/>
          <p:nvPr/>
        </p:nvSpPr>
        <p:spPr>
          <a:xfrm rot="16200000">
            <a:off x="5291640" y="5588640"/>
            <a:ext cx="432000" cy="12970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19280" y="2852640"/>
            <a:ext cx="202248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althy Chemic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travels down the grey pipe the water divides into 2. When the water passes the black areas, healthy chemicals are injected . These chemicals are great for drinking and provide nutrients for humans and are also friendly to fish. Making sure there are no more killing chemicals.</a:t>
            </a:r>
            <a:endParaRPr b="0" lang="en-US" sz="1200" spc="-1" strike="noStrike">
              <a:solidFill>
                <a:srgbClr val="000000"/>
              </a:solidFill>
              <a:latin typeface="Arial"/>
            </a:endParaRPr>
          </a:p>
        </p:txBody>
      </p:sp>
      <p:sp>
        <p:nvSpPr>
          <p:cNvPr id="163" name=""/>
          <p:cNvSpPr/>
          <p:nvPr/>
        </p:nvSpPr>
        <p:spPr>
          <a:xfrm>
            <a:off x="709308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27640" y="3645000"/>
            <a:ext cx="244800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leased Into The Oc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has pas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ange pipes, down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angled pipe and 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y. The water is releas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to the ocean. The result o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so clean you can drink it. </a:t>
            </a:r>
            <a:endParaRPr b="0" lang="en-US" sz="1200" spc="-1" strike="noStrike">
              <a:solidFill>
                <a:srgbClr val="000000"/>
              </a:solidFill>
              <a:latin typeface="Arial"/>
            </a:endParaRPr>
          </a:p>
        </p:txBody>
      </p:sp>
      <p:pic>
        <p:nvPicPr>
          <p:cNvPr id="165" name="" descr=""/>
          <p:cNvPicPr/>
          <p:nvPr/>
        </p:nvPicPr>
        <p:blipFill>
          <a:blip r:embed="rId7"/>
          <a:stretch/>
        </p:blipFill>
        <p:spPr>
          <a:xfrm>
            <a:off x="6659640" y="5327640"/>
            <a:ext cx="1824120" cy="1530360"/>
          </a:xfrm>
          <a:prstGeom prst="rect">
            <a:avLst/>
          </a:prstGeom>
          <a:ln w="0">
            <a:noFill/>
          </a:ln>
        </p:spPr>
      </p:pic>
      <p:pic>
        <p:nvPicPr>
          <p:cNvPr id="166" name="" descr=""/>
          <p:cNvPicPr/>
          <p:nvPr/>
        </p:nvPicPr>
        <p:blipFill>
          <a:blip r:embed="rId8"/>
          <a:stretch/>
        </p:blipFill>
        <p:spPr>
          <a:xfrm>
            <a:off x="6659640" y="5915160"/>
            <a:ext cx="1981080" cy="942840"/>
          </a:xfrm>
          <a:prstGeom prst="rect">
            <a:avLst/>
          </a:prstGeom>
          <a:ln w="0">
            <a:noFill/>
          </a:ln>
        </p:spPr>
      </p:pic>
      <p:pic>
        <p:nvPicPr>
          <p:cNvPr id="167" name="" descr=""/>
          <p:cNvPicPr/>
          <p:nvPr/>
        </p:nvPicPr>
        <p:blipFill>
          <a:blip r:embed="rId9"/>
          <a:stretch/>
        </p:blipFill>
        <p:spPr>
          <a:xfrm>
            <a:off x="4716360" y="7029360"/>
            <a:ext cx="304920" cy="30492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33342"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23:17:54Z</dcterms:created>
  <dc:creator>Primary School</dc:creator>
  <dc:description/>
  <dc:language>en-US</dc:language>
  <cp:lastModifiedBy>Primary School</cp:lastModifiedBy>
  <dcterms:modified xsi:type="dcterms:W3CDTF">2009-06-23T23:22:15Z</dcterms:modified>
  <cp:revision>12</cp:revision>
  <dc:subject/>
  <dc:title>Slide 1</dc:title>
</cp:coreProperties>
</file>